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7.jpeg" ContentType="image/jpeg"/>
  <Override PartName="/ppt/media/image28.png" ContentType="image/png"/>
  <Override PartName="/ppt/media/image25.png" ContentType="image/png"/>
  <Override PartName="/ppt/media/image2.png" ContentType="image/png"/>
  <Override PartName="/ppt/media/image4.jpeg" ContentType="image/jpeg"/>
  <Override PartName="/ppt/media/image40.png" ContentType="image/png"/>
  <Override PartName="/ppt/media/image33.jpeg" ContentType="image/jpeg"/>
  <Override PartName="/ppt/media/image45.png" ContentType="image/png"/>
  <Override PartName="/ppt/media/image27.jpeg" ContentType="image/jpeg"/>
  <Override PartName="/ppt/media/image37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44.png" ContentType="image/png"/>
  <Override PartName="/ppt/media/image46.png" ContentType="image/png"/>
  <Override PartName="/ppt/media/image35.png" ContentType="image/png"/>
  <Override PartName="/ppt/media/image47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36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41.png" ContentType="image/png"/>
  <Override PartName="/ppt/media/image9.wmf" ContentType="image/x-wmf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2240" y="6966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EB1F8F2-1B48-4309-9661-529FFBE2B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ing intervention strategies to achieve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F093CC0-A12A-49CB-AD31-74851C164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-1806480" y="1197000"/>
            <a:ext cx="10575720" cy="79326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561600" y="334800"/>
            <a:ext cx="4143240" cy="2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0938-1329-45D3-8F40-7642787B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F19B-D574-4DF3-8B6B-6643C049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773F-4FA7-410F-B503-868E4584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542E-E4E2-4F51-A10D-EF34BEBE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5F98-B53E-4A88-96AF-FA511ED0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EB96-997D-4108-AB8C-E255D808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BA68-3E01-4E63-8EB3-650450B6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3BDE-5C45-498A-8CC8-2FF85226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B82D-CDC4-49BF-8D69-367AFBA4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A308-94CD-48CD-8F1B-975CA364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DDA5-79C4-436E-9C39-DE17290F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727D-9CCA-407A-8F84-D581BB13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2D29-5722-47DD-ADB5-214CFF2F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B0AE-2DA3-4ECF-AFE7-513D43B2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DA0A-5DDE-4E11-AA21-B343B1D7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D54C-202C-4851-BE67-141EDC06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4153-C47E-4628-84CB-F0F8967D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C97-5BE9-4DBE-8480-A4CAB14C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DB10-11ED-4616-B863-CB01304D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6737-AFD8-4EC0-A337-F3D89652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68B7-14A5-412F-804F-D24395F5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4B93-4108-4CAC-A780-6120ACC8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1687-8280-4752-A78B-D5C137D3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DE64-B87E-4D3D-B10E-5F9E15F9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21B1-15BA-420F-84CE-245982DD3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3ACA-6093-430B-9B35-ED4EA7D2E3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43800" y="533520"/>
            <a:ext cx="1378080" cy="563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53440" y="5540400"/>
            <a:ext cx="1511280" cy="112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943600" y="609480"/>
            <a:ext cx="159084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jpe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jpeg"/><Relationship Id="rId19" Type="http://schemas.openxmlformats.org/officeDocument/2006/relationships/image" Target="../media/image33.jpe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jpe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al Laboratory Initiative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Partnership</a:t>
            </a:r>
            <a:br>
              <a:rPr sz="40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29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gamoyo, Tanz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3179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705720" y="1143000"/>
            <a:ext cx="20444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4132440" y="3081240"/>
            <a:ext cx="939240" cy="752400"/>
            <a:chOff x="4132440" y="3081240"/>
            <a:chExt cx="939240" cy="752400"/>
          </a:xfrm>
        </p:grpSpPr>
        <p:sp>
          <p:nvSpPr>
            <p:cNvPr id="668" name=""/>
            <p:cNvSpPr/>
            <p:nvPr/>
          </p:nvSpPr>
          <p:spPr>
            <a:xfrm>
              <a:off x="4132440" y="3081240"/>
              <a:ext cx="939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32440" y="3081240"/>
              <a:ext cx="93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0" name="" descr=""/>
          <p:cNvPicPr/>
          <p:nvPr/>
        </p:nvPicPr>
        <p:blipFill>
          <a:blip r:embed="rId1"/>
          <a:srcRect l="3935" t="0" r="4969" b="0"/>
          <a:stretch/>
        </p:blipFill>
        <p:spPr>
          <a:xfrm>
            <a:off x="6400800" y="2819520"/>
            <a:ext cx="216072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LI Guidance, Tools, Progra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1866960" y="1752480"/>
            <a:ext cx="1908000" cy="228924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304920" y="4114800"/>
            <a:ext cx="1944720" cy="274320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4"/>
          <a:stretch/>
        </p:blipFill>
        <p:spPr>
          <a:xfrm>
            <a:off x="3962520" y="1371600"/>
            <a:ext cx="5181480" cy="132876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981080" cy="140184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6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7"/>
          <a:stretch/>
        </p:blipFill>
        <p:spPr>
          <a:xfrm>
            <a:off x="3200400" y="4191120"/>
            <a:ext cx="2973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4132440" y="3081240"/>
            <a:ext cx="939240" cy="752400"/>
            <a:chOff x="4132440" y="3081240"/>
            <a:chExt cx="939240" cy="752400"/>
          </a:xfrm>
        </p:grpSpPr>
        <p:sp>
          <p:nvSpPr>
            <p:cNvPr id="679" name=""/>
            <p:cNvSpPr/>
            <p:nvPr/>
          </p:nvSpPr>
          <p:spPr>
            <a:xfrm>
              <a:off x="4132440" y="3081240"/>
              <a:ext cx="939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32440" y="3081240"/>
              <a:ext cx="93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LI Guidance, Tools, Programs</a:t>
            </a:r>
            <a:br>
              <a:rPr sz="32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 PROCES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6840" y="2332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equipment specifications 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andard operating procedures 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lture and DST "workshop in a box” tra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QA "workshop in a box” training (TBCAP – Un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Manual on Second Line Drug (SLD) Susceptibility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140184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Moving Forward in Diagnosis of Infectious Diseases in Developing Countries: A FOCUS ON TUBERCULOSI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121932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Arial"/>
                <a:ea typeface="SimSun"/>
              </a:rPr>
              <a:t>Fondation Mer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ecy, Fr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8-9, 2008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uidelines on implementation of line-probe assays for MDR TB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Expert Committee meeting on 31 March in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available data (including two meta-analyses) on line-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ded: “…there is sufficient generalizable evidence to justify a recommendation on the use of line-probe assays for rapid screening for MDR TB withi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ry-specific setting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guidance adopted by STAG, June 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iosafety Initiativ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C/WHO Technical consultation, Atlanta, Sept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on process, design principles and ventilation for laboratory construction and renovation (funding propos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s and guidance for simple “fan boxes” for smear microscopy (funding propos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and training on TB laboratory biosafety (TBC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6019920" y="4748040"/>
            <a:ext cx="3124080" cy="210996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0" y="4549680"/>
            <a:ext cx="3108240" cy="23083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3"/>
          <a:stretch/>
        </p:blipFill>
        <p:spPr>
          <a:xfrm>
            <a:off x="6324480" y="-2286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76720" cy="190656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5"/>
          <a:stretch/>
        </p:blipFill>
        <p:spPr>
          <a:xfrm>
            <a:off x="3200400" y="4579920"/>
            <a:ext cx="28796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7672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80060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1992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rot="20847600">
            <a:off x="1393920" y="5138280"/>
            <a:ext cx="5529240" cy="604800"/>
          </a:xfrm>
          <a:prstGeom prst="rightArrow">
            <a:avLst>
              <a:gd name="adj1" fmla="val 61500"/>
              <a:gd name="adj2" fmla="val 17023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4920" y="177336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D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rot="19981800">
            <a:off x="898200" y="3352320"/>
            <a:ext cx="5389560" cy="604800"/>
          </a:xfrm>
          <a:prstGeom prst="rightArrow">
            <a:avLst>
              <a:gd name="adj1" fmla="val 61500"/>
              <a:gd name="adj2" fmla="val 1659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08000" y="333360"/>
            <a:ext cx="8893080" cy="1079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need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illion smears, 60 mlllion cultur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6 million DST investig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must be met by 2015, requiring at least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 billion US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investment in laboratory infrastructure and annual variable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2480" y="617220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838080" y="5562720"/>
            <a:ext cx="252360" cy="61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38080" y="5105520"/>
            <a:ext cx="252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10920" y="1599120"/>
            <a:ext cx="415224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5 000 new microscopy laborator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2 000 new culture and DST laborator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 9 000 new technicians in smear microscop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 23 000 new technicians in culture and D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47920" y="1676520"/>
            <a:ext cx="4267080" cy="1218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LI Challenges at Global Leve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 of donor resources focused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forum or structure to coordinate GLI, OGAC Lab WG, WHO HIV Collaborative, Polio, IDSR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and promote TB technical needs and contribute to integrated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age of full time laboratory scientists in partner organizations to contribute to GLI---dependent on part-time volunt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GLI office is 2 technical staff—but grow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New Global Healt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1486080" cy="43812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3429000" y="3429000"/>
            <a:ext cx="2019240" cy="61920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1428840" cy="38088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4"/>
          <a:stretch/>
        </p:blipFill>
        <p:spPr>
          <a:xfrm>
            <a:off x="2286000" y="2457360"/>
            <a:ext cx="1428840" cy="43812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5"/>
          <a:stretch/>
        </p:blipFill>
        <p:spPr>
          <a:xfrm>
            <a:off x="1676520" y="2943360"/>
            <a:ext cx="1628640" cy="25704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6"/>
          <a:stretch/>
        </p:blipFill>
        <p:spPr>
          <a:xfrm>
            <a:off x="7000920" y="4073400"/>
            <a:ext cx="1990800" cy="64800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7"/>
          <a:stretch/>
        </p:blipFill>
        <p:spPr>
          <a:xfrm>
            <a:off x="6620040" y="4775040"/>
            <a:ext cx="2361960" cy="5176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8"/>
          <a:stretch/>
        </p:blipFill>
        <p:spPr>
          <a:xfrm>
            <a:off x="914400" y="5624640"/>
            <a:ext cx="1714680" cy="5382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9"/>
          <a:stretch/>
        </p:blipFill>
        <p:spPr>
          <a:xfrm>
            <a:off x="0" y="2362320"/>
            <a:ext cx="2257560" cy="21888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10"/>
          <a:stretch/>
        </p:blipFill>
        <p:spPr>
          <a:xfrm>
            <a:off x="990720" y="6234120"/>
            <a:ext cx="2981160" cy="54756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11"/>
          <a:stretch/>
        </p:blipFill>
        <p:spPr>
          <a:xfrm>
            <a:off x="0" y="3905280"/>
            <a:ext cx="1447920" cy="64620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12"/>
          <a:stretch/>
        </p:blipFill>
        <p:spPr>
          <a:xfrm>
            <a:off x="0" y="4591080"/>
            <a:ext cx="1447920" cy="53352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13"/>
          <a:stretch/>
        </p:blipFill>
        <p:spPr>
          <a:xfrm>
            <a:off x="1486080" y="3905280"/>
            <a:ext cx="914400" cy="77004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14"/>
          <a:stretch/>
        </p:blipFill>
        <p:spPr>
          <a:xfrm>
            <a:off x="4038480" y="5257800"/>
            <a:ext cx="1241640" cy="160020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15"/>
          <a:stretch/>
        </p:blipFill>
        <p:spPr>
          <a:xfrm>
            <a:off x="1447920" y="5010120"/>
            <a:ext cx="1228680" cy="62856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16"/>
          <a:stretch/>
        </p:blipFill>
        <p:spPr>
          <a:xfrm>
            <a:off x="-9360" y="3324240"/>
            <a:ext cx="2752560" cy="55080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17"/>
          <a:stretch/>
        </p:blipFill>
        <p:spPr>
          <a:xfrm>
            <a:off x="6858000" y="1828800"/>
            <a:ext cx="228600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18"/>
          <a:stretch/>
        </p:blipFill>
        <p:spPr>
          <a:xfrm>
            <a:off x="7129440" y="2438280"/>
            <a:ext cx="2014560" cy="39528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19"/>
          <a:stretch/>
        </p:blipFill>
        <p:spPr>
          <a:xfrm>
            <a:off x="6908760" y="2895480"/>
            <a:ext cx="2235240" cy="4446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0"/>
          <a:stretch/>
        </p:blipFill>
        <p:spPr>
          <a:xfrm>
            <a:off x="2743200" y="5111640"/>
            <a:ext cx="1219320" cy="10605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21"/>
          <a:stretch/>
        </p:blipFill>
        <p:spPr>
          <a:xfrm>
            <a:off x="7086600" y="5364000"/>
            <a:ext cx="852480" cy="84312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22"/>
          <a:stretch/>
        </p:blipFill>
        <p:spPr>
          <a:xfrm>
            <a:off x="6172200" y="536904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6554160" y="35812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124040" y="13716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a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6680" y="144792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vate fou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208960" y="464832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ation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09880" y="156528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23"/>
          <a:stretch/>
        </p:blipFill>
        <p:spPr>
          <a:xfrm>
            <a:off x="4038480" y="2057400"/>
            <a:ext cx="881280" cy="7794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4"/>
          <a:stretch/>
        </p:blipFill>
        <p:spPr>
          <a:xfrm>
            <a:off x="3962520" y="2819520"/>
            <a:ext cx="2428920" cy="6667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5"/>
          <a:stretch/>
        </p:blipFill>
        <p:spPr>
          <a:xfrm>
            <a:off x="8039160" y="5334120"/>
            <a:ext cx="1104840" cy="80172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26"/>
          <a:stretch/>
        </p:blipFill>
        <p:spPr>
          <a:xfrm>
            <a:off x="0" y="2666880"/>
            <a:ext cx="1486080" cy="6001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27"/>
          <a:stretch/>
        </p:blipFill>
        <p:spPr>
          <a:xfrm>
            <a:off x="7010280" y="6248520"/>
            <a:ext cx="1067040" cy="47916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28"/>
          <a:stretch/>
        </p:blipFill>
        <p:spPr>
          <a:xfrm>
            <a:off x="5029200" y="2133720"/>
            <a:ext cx="533520" cy="26676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4957920" y="23842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0" descr=""/>
          <p:cNvPicPr/>
          <p:nvPr/>
        </p:nvPicPr>
        <p:blipFill>
          <a:blip r:embed="rId29"/>
          <a:stretch/>
        </p:blipFill>
        <p:spPr>
          <a:xfrm>
            <a:off x="5334120" y="3962520"/>
            <a:ext cx="857160" cy="8287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7" descr=""/>
          <p:cNvPicPr/>
          <p:nvPr/>
        </p:nvPicPr>
        <p:blipFill>
          <a:blip r:embed="rId30"/>
          <a:stretch/>
        </p:blipFill>
        <p:spPr>
          <a:xfrm>
            <a:off x="2743200" y="4191120"/>
            <a:ext cx="236232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8077320" y="6095880"/>
            <a:ext cx="722160" cy="762120"/>
            <a:chOff x="8077320" y="6095880"/>
            <a:chExt cx="722160" cy="762120"/>
          </a:xfrm>
        </p:grpSpPr>
        <p:sp>
          <p:nvSpPr>
            <p:cNvPr id="757" name=""/>
            <p:cNvSpPr/>
            <p:nvPr/>
          </p:nvSpPr>
          <p:spPr>
            <a:xfrm>
              <a:off x="8077320" y="6095880"/>
              <a:ext cx="419400" cy="72936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496720" y="609912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533440" y="6376680"/>
              <a:ext cx="251280" cy="32436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267040" y="6194160"/>
              <a:ext cx="532440" cy="3866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219520" y="6573600"/>
              <a:ext cx="295560" cy="28440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460360" y="629640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613360" y="615060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780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916200" y="649116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GAP/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2295000" y="4572000"/>
            <a:ext cx="3998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nce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369880" y="5334120"/>
            <a:ext cx="37454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ct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827440" y="6095880"/>
            <a:ext cx="27759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lth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599200" y="2590920"/>
            <a:ext cx="316476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stry of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Progra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91440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20968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65760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10552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55308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5530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05520" y="838080"/>
            <a:ext cx="914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5812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2096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91440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Laboratory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774200" y="33526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3716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6688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1148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56272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0866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371600" y="4038480"/>
            <a:ext cx="91440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666880" y="4038480"/>
            <a:ext cx="38124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114800" y="4038480"/>
            <a:ext cx="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5257440" y="4038480"/>
            <a:ext cx="30492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6172200" y="4038480"/>
            <a:ext cx="83808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47920" y="1676520"/>
            <a:ext cx="11430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962520" y="1676520"/>
            <a:ext cx="0" cy="83808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666880" y="1676520"/>
            <a:ext cx="4572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5257440" y="1676520"/>
            <a:ext cx="2286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5638320" y="1676520"/>
            <a:ext cx="121932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0"/>
            <a:ext cx="9520920" cy="7155720"/>
            <a:chOff x="0" y="0"/>
            <a:chExt cx="9520920" cy="7155720"/>
          </a:xfrm>
        </p:grpSpPr>
        <p:sp>
          <p:nvSpPr>
            <p:cNvPr id="99" name=""/>
            <p:cNvSpPr/>
            <p:nvPr/>
          </p:nvSpPr>
          <p:spPr>
            <a:xfrm>
              <a:off x="0" y="0"/>
              <a:ext cx="9520920" cy="715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641240" y="5360040"/>
              <a:ext cx="6043320" cy="396000"/>
              <a:chOff x="1641240" y="5360040"/>
              <a:chExt cx="6043320" cy="396000"/>
            </a:xfrm>
          </p:grpSpPr>
          <p:sp>
            <p:nvSpPr>
              <p:cNvPr id="101" name=""/>
              <p:cNvSpPr/>
              <p:nvPr/>
            </p:nvSpPr>
            <p:spPr>
              <a:xfrm>
                <a:off x="1641240" y="5360040"/>
                <a:ext cx="6043320" cy="396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41240" y="5360040"/>
                <a:ext cx="6043320" cy="396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744200" y="5429520"/>
              <a:ext cx="195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biosafe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641240" y="4834440"/>
              <a:ext cx="6043320" cy="396000"/>
              <a:chOff x="1641240" y="4834440"/>
              <a:chExt cx="6043320" cy="396000"/>
            </a:xfrm>
          </p:grpSpPr>
          <p:sp>
            <p:nvSpPr>
              <p:cNvPr id="105" name=""/>
              <p:cNvSpPr/>
              <p:nvPr/>
            </p:nvSpPr>
            <p:spPr>
              <a:xfrm>
                <a:off x="1641240" y="4834440"/>
                <a:ext cx="6043320" cy="396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641240" y="4834440"/>
                <a:ext cx="6043320" cy="396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743480" y="4901760"/>
              <a:ext cx="3414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R development &amp; training strateg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641240" y="5885640"/>
              <a:ext cx="6043320" cy="398160"/>
              <a:chOff x="1641240" y="5885640"/>
              <a:chExt cx="6043320" cy="398160"/>
            </a:xfrm>
          </p:grpSpPr>
          <p:sp>
            <p:nvSpPr>
              <p:cNvPr id="109" name=""/>
              <p:cNvSpPr/>
              <p:nvPr/>
            </p:nvSpPr>
            <p:spPr>
              <a:xfrm>
                <a:off x="1641240" y="5885640"/>
                <a:ext cx="6043320" cy="398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41240" y="5885640"/>
                <a:ext cx="6043320" cy="398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743840" y="5956560"/>
              <a:ext cx="2320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accredit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641240" y="4231800"/>
              <a:ext cx="6043320" cy="398160"/>
              <a:chOff x="1641240" y="4231800"/>
              <a:chExt cx="6043320" cy="398160"/>
            </a:xfrm>
          </p:grpSpPr>
          <p:sp>
            <p:nvSpPr>
              <p:cNvPr id="113" name=""/>
              <p:cNvSpPr/>
              <p:nvPr/>
            </p:nvSpPr>
            <p:spPr>
              <a:xfrm>
                <a:off x="1641240" y="4231800"/>
                <a:ext cx="6043320" cy="398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41240" y="4231800"/>
                <a:ext cx="6043320" cy="398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1746360" y="4303080"/>
              <a:ext cx="419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strengthening country roadma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11840" y="447948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61960" y="2437920"/>
              <a:ext cx="5706360" cy="1536840"/>
              <a:chOff x="561960" y="2437920"/>
              <a:chExt cx="5706360" cy="1536840"/>
            </a:xfrm>
          </p:grpSpPr>
          <p:sp>
            <p:nvSpPr>
              <p:cNvPr id="118" name=""/>
              <p:cNvSpPr/>
              <p:nvPr/>
            </p:nvSpPr>
            <p:spPr>
              <a:xfrm>
                <a:off x="561960" y="2437920"/>
                <a:ext cx="5706360" cy="153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61960" y="2437920"/>
                <a:ext cx="5706360" cy="1536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137680" y="3400560"/>
              <a:ext cx="23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Partners Committe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1440" y="3686040"/>
              <a:ext cx="498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Organizations, STP Working Groups, Country NTP+Lab, NGOs, et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136240" y="2437920"/>
              <a:ext cx="2617920" cy="821880"/>
              <a:chOff x="2136240" y="2437920"/>
              <a:chExt cx="2617920" cy="821880"/>
            </a:xfrm>
          </p:grpSpPr>
          <p:sp>
            <p:nvSpPr>
              <p:cNvPr id="123" name=""/>
              <p:cNvSpPr/>
              <p:nvPr/>
            </p:nvSpPr>
            <p:spPr>
              <a:xfrm>
                <a:off x="2136240" y="2437920"/>
                <a:ext cx="2617920" cy="8218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136240" y="2437920"/>
                <a:ext cx="2617920" cy="82188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601720" y="3011040"/>
              <a:ext cx="153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Core Grou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144080" y="1670040"/>
              <a:ext cx="7140600" cy="510840"/>
              <a:chOff x="1144080" y="1670040"/>
              <a:chExt cx="7140600" cy="510840"/>
            </a:xfrm>
          </p:grpSpPr>
          <p:sp>
            <p:nvSpPr>
              <p:cNvPr id="127" name=""/>
              <p:cNvSpPr/>
              <p:nvPr/>
            </p:nvSpPr>
            <p:spPr>
              <a:xfrm>
                <a:off x="1144080" y="1670040"/>
                <a:ext cx="7140600" cy="510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144080" y="1670040"/>
                <a:ext cx="7140600" cy="510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2106000" y="1797480"/>
              <a:ext cx="2619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HO Stop TB Depart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93560" y="1797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90120" y="1797480"/>
              <a:ext cx="194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top TB Partnersh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136240" y="2437920"/>
              <a:ext cx="2617920" cy="345240"/>
              <a:chOff x="2136240" y="2437920"/>
              <a:chExt cx="2617920" cy="345240"/>
            </a:xfrm>
          </p:grpSpPr>
          <p:sp>
            <p:nvSpPr>
              <p:cNvPr id="133" name=""/>
              <p:cNvSpPr/>
              <p:nvPr/>
            </p:nvSpPr>
            <p:spPr>
              <a:xfrm>
                <a:off x="2136240" y="2437920"/>
                <a:ext cx="2617920" cy="3452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36240" y="2437920"/>
                <a:ext cx="2617920" cy="3452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2652480" y="2483280"/>
              <a:ext cx="1452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Secretaria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60280" y="2181240"/>
              <a:ext cx="0" cy="25632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269040" y="2437920"/>
              <a:ext cx="2763720" cy="1536840"/>
              <a:chOff x="6269040" y="2437920"/>
              <a:chExt cx="2763720" cy="1536840"/>
            </a:xfrm>
          </p:grpSpPr>
          <p:sp>
            <p:nvSpPr>
              <p:cNvPr id="138" name=""/>
              <p:cNvSpPr/>
              <p:nvPr/>
            </p:nvSpPr>
            <p:spPr>
              <a:xfrm>
                <a:off x="6269040" y="2437920"/>
                <a:ext cx="2763720" cy="153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269040" y="2437920"/>
                <a:ext cx="2763720" cy="1536840"/>
              </a:xfrm>
              <a:prstGeom prst="rect">
                <a:avLst/>
              </a:prstGeom>
              <a:solidFill>
                <a:srgbClr val="c0c0c0"/>
              </a:solidFill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1311840" y="508140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11840" y="560772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11840" y="613152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11840" y="673380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918360" y="4028040"/>
              <a:ext cx="392760" cy="3012840"/>
              <a:chOff x="918360" y="4028040"/>
              <a:chExt cx="392760" cy="3012840"/>
            </a:xfrm>
          </p:grpSpPr>
          <p:sp>
            <p:nvSpPr>
              <p:cNvPr id="145" name=""/>
              <p:cNvSpPr/>
              <p:nvPr/>
            </p:nvSpPr>
            <p:spPr>
              <a:xfrm>
                <a:off x="918360" y="4028040"/>
                <a:ext cx="392760" cy="3012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918360" y="4028040"/>
                <a:ext cx="392760" cy="3012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rot="16200000">
              <a:off x="-153720" y="5538600"/>
              <a:ext cx="2550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echnical Working Grou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612080" y="6486480"/>
              <a:ext cx="6072120" cy="397800"/>
              <a:chOff x="1612080" y="6486480"/>
              <a:chExt cx="6072120" cy="397800"/>
            </a:xfrm>
          </p:grpSpPr>
          <p:sp>
            <p:nvSpPr>
              <p:cNvPr id="149" name=""/>
              <p:cNvSpPr/>
              <p:nvPr/>
            </p:nvSpPr>
            <p:spPr>
              <a:xfrm>
                <a:off x="1612080" y="6486480"/>
                <a:ext cx="6072120" cy="3978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12080" y="6486480"/>
                <a:ext cx="6072120" cy="3978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1717560" y="6555240"/>
              <a:ext cx="54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34640" y="2516400"/>
              <a:ext cx="86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re Grou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32840" y="2707200"/>
              <a:ext cx="9658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50560" y="2516400"/>
              <a:ext cx="768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pproves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38240" y="2738160"/>
              <a:ext cx="2049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overns, evaluates project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35000" y="2960280"/>
              <a:ext cx="1107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d advise GL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72320" y="29602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35680" y="2960280"/>
              <a:ext cx="796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cretaria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05840" y="3265560"/>
              <a:ext cx="1463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artners Committe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1880" y="3456720"/>
              <a:ext cx="164304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47080" y="326556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: approve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7640" y="3489840"/>
              <a:ext cx="218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d advises strategic agend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2960" y="3711600"/>
              <a:ext cx="448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f GL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15640" y="72216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15640" y="1040400"/>
              <a:ext cx="5490720" cy="1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49400" y="533520"/>
            <a:ext cx="82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lobal Laboratory Initiative – Structure and 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762120" y="2895480"/>
            <a:ext cx="79912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need to develop a laboratory systems approach, with a focus on quality systems and standards to achieve the common goals of quality patient care and public health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gain through a shared system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600200" y="-228600"/>
            <a:ext cx="6045120" cy="281772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1905120" y="33526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129480" y="243828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 of L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2"/>
          <a:srcRect l="31456" t="18133" r="13182" b="29365"/>
          <a:stretch/>
        </p:blipFill>
        <p:spPr>
          <a:xfrm>
            <a:off x="2743200" y="4164120"/>
            <a:ext cx="40384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523880" y="5181120"/>
            <a:ext cx="60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c Laboratory Pla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600200" y="2819520"/>
            <a:ext cx="62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tional Laboratory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7924680" y="2590920"/>
            <a:ext cx="846360" cy="3504960"/>
          </a:xfrm>
          <a:custGeom>
            <a:avLst/>
            <a:gdLst>
              <a:gd name="textAreaLeft" fmla="*/ 113400 w 846360"/>
              <a:gd name="textAreaRight" fmla="*/ 732960 w 846360"/>
              <a:gd name="textAreaTop" fmla="*/ 613080 h 3504960"/>
              <a:gd name="textAreaBottom" fmla="*/ 2541240 h 35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609480" y="2514600"/>
            <a:ext cx="914400" cy="4114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720000 h 4114800"/>
              <a:gd name="textAreaBottom" fmla="*/ 29833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072800" y="304920"/>
            <a:ext cx="686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oadmaps for TB Laborato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rsement by STP-CB and support to address barriers and mobilise STP part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osafety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idance and EQA for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and adequate funding for SR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training and H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3080" y="333000"/>
            <a:ext cx="9036000" cy="1150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P-G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8000" y="1676520"/>
            <a:ext cx="8856720" cy="4537080"/>
            <a:chOff x="108000" y="1676520"/>
            <a:chExt cx="8856720" cy="4537080"/>
          </a:xfrm>
        </p:grpSpPr>
        <p:grpSp>
          <p:nvGrpSpPr>
            <p:cNvPr id="169" name=""/>
            <p:cNvGrpSpPr/>
            <p:nvPr/>
          </p:nvGrpSpPr>
          <p:grpSpPr>
            <a:xfrm>
              <a:off x="1540080" y="1820880"/>
              <a:ext cx="6381720" cy="4287600"/>
              <a:chOff x="1540080" y="1820880"/>
              <a:chExt cx="6381720" cy="428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1540080" y="182088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063520" y="227304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603880" y="278964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34120" y="186768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00760" y="321948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377520" y="241020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360600" y="296352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58800" y="337752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GLI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712320" y="3633840"/>
                <a:ext cx="2009160" cy="664200"/>
              </a:xfrm>
              <a:prstGeom prst="ellipse">
                <a:avLst/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8954600">
                <a:off x="2313360" y="462240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8954600">
                <a:off x="5100120" y="2756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620800">
                <a:off x="5065920" y="462240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2620800">
                <a:off x="2314800" y="275580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912000" y="236052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ng TA,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Online knowledge resource networ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05800" y="462924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“roadmaps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720" y="462924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pment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8000" y="257652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atory poli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atory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urce mobil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108000" y="167652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STP-GLI activ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763640" y="6172200"/>
            <a:ext cx="60199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expanding SRLN, building diverse and flexible national, regional, intern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nsultants base, systematic  and structured train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46920" y="437040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 STP W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05360" y="480996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chnical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1960" y="5229360"/>
            <a:ext cx="20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Laboratory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6560" y="57466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50720" y="614052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55640" y="6093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63680" y="6356520"/>
            <a:ext cx="142920" cy="134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55640" y="6308640"/>
            <a:ext cx="21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der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5280" y="5805360"/>
            <a:ext cx="272880" cy="292320"/>
          </a:xfrm>
          <a:custGeom>
            <a:avLst/>
            <a:gdLst>
              <a:gd name="textAreaLeft" fmla="*/ 112320 w 272880"/>
              <a:gd name="textAreaRight" fmla="*/ 160560 w 27288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55640" y="5877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ordinating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79280" y="364500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 Ame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059280" y="5661000"/>
            <a:ext cx="165708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 in Afric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308720" y="836640"/>
            <a:ext cx="165744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 in Weste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a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6732720" y="1413000"/>
            <a:ext cx="151128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348000" y="155736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1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140360" y="1989000"/>
            <a:ext cx="287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14130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7308720" y="3213000"/>
            <a:ext cx="1657440" cy="7207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 in South Ea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6084720" y="364500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35640" y="609300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 Easte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editerran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476360" y="4076640"/>
            <a:ext cx="1295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3708360" y="4724280"/>
            <a:ext cx="720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5076360" y="3645000"/>
            <a:ext cx="129708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ahoma"/>
                <a:ea typeface="Tahoma"/>
              </a:rPr>
              <a:t>Acknowledgeme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608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B/THD Laboratory Strengthening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ul Nunn (THD Coord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lpana Sin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ronique Vin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rin W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I Cor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ucia Barr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ancis Drobniew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ris Gilp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e Gord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ses Jol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i Man K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hn Ridderhof (Cha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ick O'Br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m Shinn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mand van De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23920" y="1523520"/>
            <a:ext cx="4038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I 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merican Society for Microbiology (AS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ssociation of Public Health Laboratories (APH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Bill &amp; Melinda Gates 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Centers for Disease Control and Prevention (CD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SimSun"/>
              </a:rPr>
              <a:t>CDC Global AIDS Programme (G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SimSun"/>
              </a:rPr>
              <a:t>Fondation Merie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oundation for Innovative New Diagnostics (FI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International Union Against TB and Lu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EP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USA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KN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erieux A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anagement Sciences for Health (M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edicins Sans Front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 Working Groups (New Diagnostics, MDR-TB, Retooling Task Force, DOTS Expan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National TB 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World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Global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nd grow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1573200" cy="11746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5334120" y="152280"/>
            <a:ext cx="2361960" cy="70344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7543800" y="60948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Tahoma"/>
              </a:rPr>
              <a:t>GLI strategic priorit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5560" y="191628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stablishing GLI partnership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 template for country-specific roadmaps for laboratory strengthe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human resource strategies, including consultant training, training of different laboratory technical cadres, career development and reten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ppropriate and adequate laboratory biosafety norms and standards, strategies an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 TB laboratory accredit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Moving new diagnostics into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6705720" y="5029200"/>
            <a:ext cx="21333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"/>
              </a:rPr>
              <a:t>GLI Projects are run on behalf of GLI, and adhere to a collaborative spiri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5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igned with strategic agenda and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lementarity with other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aison to GLI-S i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ct review proces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equate partner representation requirements satis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 networks ut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ortant Meetings - GLI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TB Partnership Coordinating Board, Berlin, October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on Conference, Capetown, November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I Core Group and Partners Committee, Geneva, February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Technical Consultation - Line probe assays, Geneva, March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AFRO HIV Laboratory Network, Maputo, March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/CDC International Conference on Health Laboratory Quality Systems, Lyon, April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Forward in Infectious Disease: A Focus on TB”, GLI, WHO, Fondation Merioux, Annecy, May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Strategic and Technical Advisory Group for Tuberculosis (STAG), Geneva, June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C/WHO Technical Consultation on Biosafety, Atlanta, September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ion Conference, Paris, October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27040" y="6012000"/>
            <a:ext cx="8077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* WHO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ion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IND, CDC, Patient Community, National TB Programmes, Supranational &amp; 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B Reference Labora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bservers, Liaisons with other Working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279160" y="609480"/>
            <a:ext cx="34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ahoma"/>
                <a:ea typeface="Arial"/>
              </a:rPr>
              <a:t>Achie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8920" y="1706400"/>
            <a:ext cx="903744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LI Strategic Plan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GLI Core Grou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expan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Technical guidance transitioned from volunteer effort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tructured process of expert review and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Increase in technical work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Expansion of WHO Laboratory Team, GLI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Laboratory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LD-DST Policy Guidance and Technical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Management Information System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RLN implementation of SLD E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20:36:14Z</dcterms:created>
  <dc:creator>bkg6</dc:creator>
  <dc:description/>
  <dc:language>en-US</dc:language>
  <cp:lastModifiedBy>Karin Weyer</cp:lastModifiedBy>
  <dcterms:modified xsi:type="dcterms:W3CDTF">2008-10-29T05:31:06Z</dcterms:modified>
  <cp:revision>181</cp:revision>
  <dc:subject/>
  <dc:title>Slide 1</dc:title>
</cp:coreProperties>
</file>