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86200" y="29714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86200" y="29714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86200" y="29714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6200" y="29714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6200" y="29714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86200" y="29714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86200" y="29714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Kncv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86200" y="2971440"/>
            <a:ext cx="4495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6200" y="29714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6200" y="29714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6200" y="29714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86200" y="29714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6200" y="29714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86200" y="29714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6200" y="29714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86200" y="29714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86200" y="29714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86200" y="29714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Kncv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86200" y="2971440"/>
            <a:ext cx="4495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6200" y="29714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6200" y="29714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6200" y="29714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Kncv"/>
              </a:rPr>
              <a:t>Click to edit the title text format</a:t>
            </a:r>
            <a:endParaRPr b="1" lang="en-US" sz="40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9807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8565120" y="6203520"/>
            <a:ext cx="515160" cy="589680"/>
            <a:chOff x="8565120" y="6203520"/>
            <a:chExt cx="515160" cy="589680"/>
          </a:xfrm>
        </p:grpSpPr>
        <p:sp>
          <p:nvSpPr>
            <p:cNvPr id="3" name=""/>
            <p:cNvSpPr/>
            <p:nvPr/>
          </p:nvSpPr>
          <p:spPr>
            <a:xfrm rot="21436800">
              <a:off x="8749440" y="6228360"/>
              <a:ext cx="114480" cy="212760"/>
            </a:xfrm>
            <a:custGeom>
              <a:avLst/>
              <a:gdLst/>
              <a:ahLst/>
              <a:rect l="l" t="t" r="r" b="b"/>
              <a:pathLst>
                <a:path w="488" h="906">
                  <a:moveTo>
                    <a:pt x="237" y="83"/>
                  </a:moveTo>
                  <a:lnTo>
                    <a:pt x="237" y="83"/>
                  </a:lnTo>
                  <a:lnTo>
                    <a:pt x="209" y="41"/>
                  </a:lnTo>
                  <a:lnTo>
                    <a:pt x="181" y="13"/>
                  </a:lnTo>
                  <a:lnTo>
                    <a:pt x="139" y="0"/>
                  </a:lnTo>
                  <a:lnTo>
                    <a:pt x="83" y="13"/>
                  </a:lnTo>
                  <a:lnTo>
                    <a:pt x="83" y="13"/>
                  </a:lnTo>
                  <a:lnTo>
                    <a:pt x="41" y="27"/>
                  </a:lnTo>
                  <a:lnTo>
                    <a:pt x="14" y="69"/>
                  </a:lnTo>
                  <a:lnTo>
                    <a:pt x="0" y="111"/>
                  </a:lnTo>
                  <a:lnTo>
                    <a:pt x="14" y="153"/>
                  </a:lnTo>
                  <a:lnTo>
                    <a:pt x="223" y="878"/>
                  </a:lnTo>
                  <a:lnTo>
                    <a:pt x="223" y="878"/>
                  </a:lnTo>
                  <a:lnTo>
                    <a:pt x="334" y="878"/>
                  </a:lnTo>
                  <a:lnTo>
                    <a:pt x="418" y="878"/>
                  </a:lnTo>
                  <a:lnTo>
                    <a:pt x="488" y="906"/>
                  </a:lnTo>
                  <a:lnTo>
                    <a:pt x="237" y="83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21436800">
              <a:off x="8614080" y="6277680"/>
              <a:ext cx="104400" cy="203040"/>
            </a:xfrm>
            <a:custGeom>
              <a:avLst/>
              <a:gdLst/>
              <a:ahLst/>
              <a:rect l="l" t="t" r="r" b="b"/>
              <a:pathLst>
                <a:path w="446" h="864">
                  <a:moveTo>
                    <a:pt x="223" y="83"/>
                  </a:moveTo>
                  <a:lnTo>
                    <a:pt x="223" y="83"/>
                  </a:lnTo>
                  <a:lnTo>
                    <a:pt x="209" y="42"/>
                  </a:lnTo>
                  <a:lnTo>
                    <a:pt x="167" y="14"/>
                  </a:lnTo>
                  <a:lnTo>
                    <a:pt x="126" y="0"/>
                  </a:lnTo>
                  <a:lnTo>
                    <a:pt x="84" y="14"/>
                  </a:lnTo>
                  <a:lnTo>
                    <a:pt x="84" y="14"/>
                  </a:lnTo>
                  <a:lnTo>
                    <a:pt x="42" y="28"/>
                  </a:lnTo>
                  <a:lnTo>
                    <a:pt x="14" y="70"/>
                  </a:lnTo>
                  <a:lnTo>
                    <a:pt x="0" y="111"/>
                  </a:lnTo>
                  <a:lnTo>
                    <a:pt x="0" y="153"/>
                  </a:lnTo>
                  <a:lnTo>
                    <a:pt x="223" y="864"/>
                  </a:lnTo>
                  <a:lnTo>
                    <a:pt x="446" y="795"/>
                  </a:lnTo>
                  <a:lnTo>
                    <a:pt x="223" y="83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21436800">
              <a:off x="8673120" y="6209280"/>
              <a:ext cx="258120" cy="484920"/>
            </a:xfrm>
            <a:custGeom>
              <a:avLst/>
              <a:gdLst/>
              <a:ahLst/>
              <a:rect l="l" t="t" r="r" b="b"/>
              <a:pathLst>
                <a:path w="1101" h="2064">
                  <a:moveTo>
                    <a:pt x="237" y="84"/>
                  </a:moveTo>
                  <a:lnTo>
                    <a:pt x="237" y="84"/>
                  </a:lnTo>
                  <a:lnTo>
                    <a:pt x="209" y="42"/>
                  </a:lnTo>
                  <a:lnTo>
                    <a:pt x="181" y="14"/>
                  </a:lnTo>
                  <a:lnTo>
                    <a:pt x="139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42" y="28"/>
                  </a:lnTo>
                  <a:lnTo>
                    <a:pt x="14" y="56"/>
                  </a:lnTo>
                  <a:lnTo>
                    <a:pt x="0" y="111"/>
                  </a:lnTo>
                  <a:lnTo>
                    <a:pt x="0" y="153"/>
                  </a:lnTo>
                  <a:lnTo>
                    <a:pt x="586" y="2064"/>
                  </a:lnTo>
                  <a:lnTo>
                    <a:pt x="795" y="1994"/>
                  </a:lnTo>
                  <a:lnTo>
                    <a:pt x="823" y="1994"/>
                  </a:lnTo>
                  <a:lnTo>
                    <a:pt x="823" y="1994"/>
                  </a:lnTo>
                  <a:lnTo>
                    <a:pt x="892" y="1952"/>
                  </a:lnTo>
                  <a:lnTo>
                    <a:pt x="962" y="1896"/>
                  </a:lnTo>
                  <a:lnTo>
                    <a:pt x="1018" y="1827"/>
                  </a:lnTo>
                  <a:lnTo>
                    <a:pt x="1060" y="1743"/>
                  </a:lnTo>
                  <a:lnTo>
                    <a:pt x="1088" y="1659"/>
                  </a:lnTo>
                  <a:lnTo>
                    <a:pt x="1101" y="1562"/>
                  </a:lnTo>
                  <a:lnTo>
                    <a:pt x="1101" y="1478"/>
                  </a:lnTo>
                  <a:lnTo>
                    <a:pt x="1088" y="1394"/>
                  </a:lnTo>
                  <a:lnTo>
                    <a:pt x="1088" y="1394"/>
                  </a:lnTo>
                  <a:lnTo>
                    <a:pt x="1060" y="1297"/>
                  </a:lnTo>
                  <a:lnTo>
                    <a:pt x="1004" y="1213"/>
                  </a:lnTo>
                  <a:lnTo>
                    <a:pt x="948" y="1143"/>
                  </a:lnTo>
                  <a:lnTo>
                    <a:pt x="878" y="1088"/>
                  </a:lnTo>
                  <a:lnTo>
                    <a:pt x="795" y="1046"/>
                  </a:lnTo>
                  <a:lnTo>
                    <a:pt x="711" y="1032"/>
                  </a:lnTo>
                  <a:lnTo>
                    <a:pt x="627" y="1018"/>
                  </a:lnTo>
                  <a:lnTo>
                    <a:pt x="530" y="1032"/>
                  </a:lnTo>
                  <a:lnTo>
                    <a:pt x="237" y="84"/>
                  </a:lnTo>
                  <a:close/>
                  <a:moveTo>
                    <a:pt x="837" y="1450"/>
                  </a:moveTo>
                  <a:lnTo>
                    <a:pt x="837" y="1450"/>
                  </a:lnTo>
                  <a:lnTo>
                    <a:pt x="851" y="1520"/>
                  </a:lnTo>
                  <a:lnTo>
                    <a:pt x="851" y="1576"/>
                  </a:lnTo>
                  <a:lnTo>
                    <a:pt x="823" y="1617"/>
                  </a:lnTo>
                  <a:lnTo>
                    <a:pt x="809" y="1659"/>
                  </a:lnTo>
                  <a:lnTo>
                    <a:pt x="767" y="1715"/>
                  </a:lnTo>
                  <a:lnTo>
                    <a:pt x="739" y="1729"/>
                  </a:lnTo>
                  <a:lnTo>
                    <a:pt x="614" y="1297"/>
                  </a:lnTo>
                  <a:lnTo>
                    <a:pt x="614" y="1297"/>
                  </a:lnTo>
                  <a:lnTo>
                    <a:pt x="669" y="1297"/>
                  </a:lnTo>
                  <a:lnTo>
                    <a:pt x="725" y="1311"/>
                  </a:lnTo>
                  <a:lnTo>
                    <a:pt x="767" y="1339"/>
                  </a:lnTo>
                  <a:lnTo>
                    <a:pt x="795" y="1366"/>
                  </a:lnTo>
                  <a:lnTo>
                    <a:pt x="823" y="1422"/>
                  </a:lnTo>
                  <a:lnTo>
                    <a:pt x="837" y="1450"/>
                  </a:lnTo>
                  <a:lnTo>
                    <a:pt x="837" y="145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1436800">
              <a:off x="8704080" y="6552360"/>
              <a:ext cx="97920" cy="150840"/>
            </a:xfrm>
            <a:custGeom>
              <a:avLst/>
              <a:gdLst/>
              <a:ahLst/>
              <a:rect l="l" t="t" r="r" b="b"/>
              <a:pathLst>
                <a:path w="418" h="642">
                  <a:moveTo>
                    <a:pt x="125" y="502"/>
                  </a:moveTo>
                  <a:lnTo>
                    <a:pt x="125" y="502"/>
                  </a:lnTo>
                  <a:lnTo>
                    <a:pt x="153" y="544"/>
                  </a:lnTo>
                  <a:lnTo>
                    <a:pt x="167" y="572"/>
                  </a:lnTo>
                  <a:lnTo>
                    <a:pt x="195" y="600"/>
                  </a:lnTo>
                  <a:lnTo>
                    <a:pt x="237" y="628"/>
                  </a:lnTo>
                  <a:lnTo>
                    <a:pt x="278" y="642"/>
                  </a:lnTo>
                  <a:lnTo>
                    <a:pt x="348" y="642"/>
                  </a:lnTo>
                  <a:lnTo>
                    <a:pt x="418" y="628"/>
                  </a:lnTo>
                  <a:lnTo>
                    <a:pt x="237" y="0"/>
                  </a:lnTo>
                  <a:lnTo>
                    <a:pt x="0" y="70"/>
                  </a:lnTo>
                  <a:lnTo>
                    <a:pt x="125" y="50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1436800">
              <a:off x="8574840" y="6370920"/>
              <a:ext cx="251640" cy="416160"/>
            </a:xfrm>
            <a:custGeom>
              <a:avLst/>
              <a:gdLst/>
              <a:ahLst/>
              <a:rect l="l" t="t" r="r" b="b"/>
              <a:pathLst>
                <a:path w="1073" h="1771">
                  <a:moveTo>
                    <a:pt x="390" y="1409"/>
                  </a:moveTo>
                  <a:lnTo>
                    <a:pt x="390" y="1409"/>
                  </a:lnTo>
                  <a:lnTo>
                    <a:pt x="418" y="1492"/>
                  </a:lnTo>
                  <a:lnTo>
                    <a:pt x="460" y="1562"/>
                  </a:lnTo>
                  <a:lnTo>
                    <a:pt x="516" y="1618"/>
                  </a:lnTo>
                  <a:lnTo>
                    <a:pt x="558" y="1674"/>
                  </a:lnTo>
                  <a:lnTo>
                    <a:pt x="613" y="1701"/>
                  </a:lnTo>
                  <a:lnTo>
                    <a:pt x="669" y="1729"/>
                  </a:lnTo>
                  <a:lnTo>
                    <a:pt x="781" y="1757"/>
                  </a:lnTo>
                  <a:lnTo>
                    <a:pt x="892" y="1771"/>
                  </a:lnTo>
                  <a:lnTo>
                    <a:pt x="990" y="1757"/>
                  </a:lnTo>
                  <a:lnTo>
                    <a:pt x="1073" y="1743"/>
                  </a:lnTo>
                  <a:lnTo>
                    <a:pt x="990" y="1478"/>
                  </a:lnTo>
                  <a:lnTo>
                    <a:pt x="990" y="1478"/>
                  </a:lnTo>
                  <a:lnTo>
                    <a:pt x="892" y="1492"/>
                  </a:lnTo>
                  <a:lnTo>
                    <a:pt x="822" y="1492"/>
                  </a:lnTo>
                  <a:lnTo>
                    <a:pt x="767" y="1478"/>
                  </a:lnTo>
                  <a:lnTo>
                    <a:pt x="711" y="1450"/>
                  </a:lnTo>
                  <a:lnTo>
                    <a:pt x="669" y="1409"/>
                  </a:lnTo>
                  <a:lnTo>
                    <a:pt x="641" y="1381"/>
                  </a:lnTo>
                  <a:lnTo>
                    <a:pt x="613" y="1311"/>
                  </a:lnTo>
                  <a:lnTo>
                    <a:pt x="460" y="809"/>
                  </a:lnTo>
                  <a:lnTo>
                    <a:pt x="753" y="725"/>
                  </a:lnTo>
                  <a:lnTo>
                    <a:pt x="683" y="460"/>
                  </a:lnTo>
                  <a:lnTo>
                    <a:pt x="376" y="558"/>
                  </a:lnTo>
                  <a:lnTo>
                    <a:pt x="237" y="84"/>
                  </a:lnTo>
                  <a:lnTo>
                    <a:pt x="237" y="84"/>
                  </a:lnTo>
                  <a:lnTo>
                    <a:pt x="209" y="42"/>
                  </a:lnTo>
                  <a:lnTo>
                    <a:pt x="181" y="14"/>
                  </a:lnTo>
                  <a:lnTo>
                    <a:pt x="139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42" y="28"/>
                  </a:lnTo>
                  <a:lnTo>
                    <a:pt x="14" y="56"/>
                  </a:lnTo>
                  <a:lnTo>
                    <a:pt x="0" y="98"/>
                  </a:lnTo>
                  <a:lnTo>
                    <a:pt x="0" y="154"/>
                  </a:lnTo>
                  <a:lnTo>
                    <a:pt x="390" y="140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21436800">
              <a:off x="8825400" y="6490800"/>
              <a:ext cx="248400" cy="275040"/>
            </a:xfrm>
            <a:custGeom>
              <a:avLst/>
              <a:gdLst/>
              <a:ahLst/>
              <a:rect l="l" t="t" r="r" b="b"/>
              <a:pathLst>
                <a:path w="1059" h="1171">
                  <a:moveTo>
                    <a:pt x="1045" y="181"/>
                  </a:moveTo>
                  <a:lnTo>
                    <a:pt x="1045" y="181"/>
                  </a:lnTo>
                  <a:lnTo>
                    <a:pt x="1059" y="139"/>
                  </a:lnTo>
                  <a:lnTo>
                    <a:pt x="1059" y="84"/>
                  </a:lnTo>
                  <a:lnTo>
                    <a:pt x="1045" y="42"/>
                  </a:lnTo>
                  <a:lnTo>
                    <a:pt x="1003" y="14"/>
                  </a:lnTo>
                  <a:lnTo>
                    <a:pt x="1003" y="14"/>
                  </a:lnTo>
                  <a:lnTo>
                    <a:pt x="962" y="0"/>
                  </a:lnTo>
                  <a:lnTo>
                    <a:pt x="920" y="0"/>
                  </a:lnTo>
                  <a:lnTo>
                    <a:pt x="878" y="14"/>
                  </a:lnTo>
                  <a:lnTo>
                    <a:pt x="836" y="42"/>
                  </a:lnTo>
                  <a:lnTo>
                    <a:pt x="460" y="641"/>
                  </a:lnTo>
                  <a:lnTo>
                    <a:pt x="460" y="641"/>
                  </a:lnTo>
                  <a:lnTo>
                    <a:pt x="432" y="683"/>
                  </a:lnTo>
                  <a:lnTo>
                    <a:pt x="390" y="725"/>
                  </a:lnTo>
                  <a:lnTo>
                    <a:pt x="348" y="767"/>
                  </a:lnTo>
                  <a:lnTo>
                    <a:pt x="348" y="767"/>
                  </a:lnTo>
                  <a:lnTo>
                    <a:pt x="250" y="823"/>
                  </a:lnTo>
                  <a:lnTo>
                    <a:pt x="181" y="851"/>
                  </a:lnTo>
                  <a:lnTo>
                    <a:pt x="181" y="851"/>
                  </a:lnTo>
                  <a:lnTo>
                    <a:pt x="0" y="892"/>
                  </a:lnTo>
                  <a:lnTo>
                    <a:pt x="69" y="1171"/>
                  </a:lnTo>
                  <a:lnTo>
                    <a:pt x="278" y="1102"/>
                  </a:lnTo>
                  <a:lnTo>
                    <a:pt x="278" y="1102"/>
                  </a:lnTo>
                  <a:lnTo>
                    <a:pt x="306" y="1088"/>
                  </a:lnTo>
                  <a:lnTo>
                    <a:pt x="404" y="1046"/>
                  </a:lnTo>
                  <a:lnTo>
                    <a:pt x="460" y="1004"/>
                  </a:lnTo>
                  <a:lnTo>
                    <a:pt x="515" y="948"/>
                  </a:lnTo>
                  <a:lnTo>
                    <a:pt x="585" y="878"/>
                  </a:lnTo>
                  <a:lnTo>
                    <a:pt x="641" y="809"/>
                  </a:lnTo>
                  <a:lnTo>
                    <a:pt x="1045" y="181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25480" y="1295280"/>
            <a:ext cx="6504120" cy="64800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2817720" y="2133720"/>
            <a:ext cx="3703320" cy="4263480"/>
            <a:chOff x="2817720" y="2133720"/>
            <a:chExt cx="3703320" cy="4263480"/>
          </a:xfrm>
        </p:grpSpPr>
        <p:sp>
          <p:nvSpPr>
            <p:cNvPr id="47" name=""/>
            <p:cNvSpPr/>
            <p:nvPr/>
          </p:nvSpPr>
          <p:spPr>
            <a:xfrm>
              <a:off x="4207320" y="2280600"/>
              <a:ext cx="852840" cy="1582920"/>
            </a:xfrm>
            <a:custGeom>
              <a:avLst/>
              <a:gdLst/>
              <a:ahLst/>
              <a:rect l="l" t="t" r="r" b="b"/>
              <a:pathLst>
                <a:path w="488" h="906">
                  <a:moveTo>
                    <a:pt x="237" y="83"/>
                  </a:moveTo>
                  <a:lnTo>
                    <a:pt x="237" y="83"/>
                  </a:lnTo>
                  <a:lnTo>
                    <a:pt x="209" y="41"/>
                  </a:lnTo>
                  <a:lnTo>
                    <a:pt x="181" y="13"/>
                  </a:lnTo>
                  <a:lnTo>
                    <a:pt x="139" y="0"/>
                  </a:lnTo>
                  <a:lnTo>
                    <a:pt x="83" y="13"/>
                  </a:lnTo>
                  <a:lnTo>
                    <a:pt x="83" y="13"/>
                  </a:lnTo>
                  <a:lnTo>
                    <a:pt x="41" y="27"/>
                  </a:lnTo>
                  <a:lnTo>
                    <a:pt x="14" y="69"/>
                  </a:lnTo>
                  <a:lnTo>
                    <a:pt x="0" y="111"/>
                  </a:lnTo>
                  <a:lnTo>
                    <a:pt x="14" y="153"/>
                  </a:lnTo>
                  <a:lnTo>
                    <a:pt x="223" y="878"/>
                  </a:lnTo>
                  <a:lnTo>
                    <a:pt x="223" y="878"/>
                  </a:lnTo>
                  <a:lnTo>
                    <a:pt x="334" y="878"/>
                  </a:lnTo>
                  <a:lnTo>
                    <a:pt x="418" y="878"/>
                  </a:lnTo>
                  <a:lnTo>
                    <a:pt x="488" y="906"/>
                  </a:lnTo>
                  <a:lnTo>
                    <a:pt x="237" y="83"/>
                  </a:lnTo>
                  <a:close/>
                </a:path>
              </a:pathLst>
            </a:custGeom>
            <a:solidFill>
              <a:srgbClr val="f2f2f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3120" y="2596680"/>
              <a:ext cx="779400" cy="1509480"/>
            </a:xfrm>
            <a:custGeom>
              <a:avLst/>
              <a:gdLst/>
              <a:ahLst/>
              <a:rect l="l" t="t" r="r" b="b"/>
              <a:pathLst>
                <a:path w="446" h="864">
                  <a:moveTo>
                    <a:pt x="223" y="83"/>
                  </a:moveTo>
                  <a:lnTo>
                    <a:pt x="223" y="83"/>
                  </a:lnTo>
                  <a:lnTo>
                    <a:pt x="209" y="42"/>
                  </a:lnTo>
                  <a:lnTo>
                    <a:pt x="167" y="14"/>
                  </a:lnTo>
                  <a:lnTo>
                    <a:pt x="126" y="0"/>
                  </a:lnTo>
                  <a:lnTo>
                    <a:pt x="84" y="14"/>
                  </a:lnTo>
                  <a:lnTo>
                    <a:pt x="84" y="14"/>
                  </a:lnTo>
                  <a:lnTo>
                    <a:pt x="42" y="28"/>
                  </a:lnTo>
                  <a:lnTo>
                    <a:pt x="14" y="70"/>
                  </a:lnTo>
                  <a:lnTo>
                    <a:pt x="0" y="111"/>
                  </a:lnTo>
                  <a:lnTo>
                    <a:pt x="0" y="153"/>
                  </a:lnTo>
                  <a:lnTo>
                    <a:pt x="223" y="864"/>
                  </a:lnTo>
                  <a:lnTo>
                    <a:pt x="446" y="795"/>
                  </a:lnTo>
                  <a:lnTo>
                    <a:pt x="223" y="83"/>
                  </a:lnTo>
                  <a:close/>
                </a:path>
              </a:pathLst>
            </a:custGeom>
            <a:solidFill>
              <a:srgbClr val="f2f2f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597120" y="2133720"/>
              <a:ext cx="1924200" cy="3606480"/>
            </a:xfrm>
            <a:custGeom>
              <a:avLst/>
              <a:gdLst/>
              <a:ahLst/>
              <a:rect l="l" t="t" r="r" b="b"/>
              <a:pathLst>
                <a:path w="1101" h="2064">
                  <a:moveTo>
                    <a:pt x="237" y="84"/>
                  </a:moveTo>
                  <a:lnTo>
                    <a:pt x="237" y="84"/>
                  </a:lnTo>
                  <a:lnTo>
                    <a:pt x="209" y="42"/>
                  </a:lnTo>
                  <a:lnTo>
                    <a:pt x="181" y="14"/>
                  </a:lnTo>
                  <a:lnTo>
                    <a:pt x="139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42" y="28"/>
                  </a:lnTo>
                  <a:lnTo>
                    <a:pt x="14" y="56"/>
                  </a:lnTo>
                  <a:lnTo>
                    <a:pt x="0" y="111"/>
                  </a:lnTo>
                  <a:lnTo>
                    <a:pt x="0" y="153"/>
                  </a:lnTo>
                  <a:lnTo>
                    <a:pt x="586" y="2064"/>
                  </a:lnTo>
                  <a:lnTo>
                    <a:pt x="795" y="1994"/>
                  </a:lnTo>
                  <a:lnTo>
                    <a:pt x="823" y="1994"/>
                  </a:lnTo>
                  <a:lnTo>
                    <a:pt x="823" y="1994"/>
                  </a:lnTo>
                  <a:lnTo>
                    <a:pt x="892" y="1952"/>
                  </a:lnTo>
                  <a:lnTo>
                    <a:pt x="962" y="1896"/>
                  </a:lnTo>
                  <a:lnTo>
                    <a:pt x="1018" y="1827"/>
                  </a:lnTo>
                  <a:lnTo>
                    <a:pt x="1060" y="1743"/>
                  </a:lnTo>
                  <a:lnTo>
                    <a:pt x="1088" y="1659"/>
                  </a:lnTo>
                  <a:lnTo>
                    <a:pt x="1101" y="1562"/>
                  </a:lnTo>
                  <a:lnTo>
                    <a:pt x="1101" y="1478"/>
                  </a:lnTo>
                  <a:lnTo>
                    <a:pt x="1088" y="1394"/>
                  </a:lnTo>
                  <a:lnTo>
                    <a:pt x="1088" y="1394"/>
                  </a:lnTo>
                  <a:lnTo>
                    <a:pt x="1060" y="1297"/>
                  </a:lnTo>
                  <a:lnTo>
                    <a:pt x="1004" y="1213"/>
                  </a:lnTo>
                  <a:lnTo>
                    <a:pt x="948" y="1143"/>
                  </a:lnTo>
                  <a:lnTo>
                    <a:pt x="878" y="1088"/>
                  </a:lnTo>
                  <a:lnTo>
                    <a:pt x="795" y="1046"/>
                  </a:lnTo>
                  <a:lnTo>
                    <a:pt x="711" y="1032"/>
                  </a:lnTo>
                  <a:lnTo>
                    <a:pt x="627" y="1018"/>
                  </a:lnTo>
                  <a:lnTo>
                    <a:pt x="530" y="1032"/>
                  </a:lnTo>
                  <a:lnTo>
                    <a:pt x="237" y="84"/>
                  </a:lnTo>
                  <a:close/>
                  <a:moveTo>
                    <a:pt x="837" y="1450"/>
                  </a:moveTo>
                  <a:lnTo>
                    <a:pt x="837" y="1450"/>
                  </a:lnTo>
                  <a:lnTo>
                    <a:pt x="851" y="1520"/>
                  </a:lnTo>
                  <a:lnTo>
                    <a:pt x="851" y="1576"/>
                  </a:lnTo>
                  <a:lnTo>
                    <a:pt x="823" y="1617"/>
                  </a:lnTo>
                  <a:lnTo>
                    <a:pt x="809" y="1659"/>
                  </a:lnTo>
                  <a:lnTo>
                    <a:pt x="767" y="1715"/>
                  </a:lnTo>
                  <a:lnTo>
                    <a:pt x="739" y="1729"/>
                  </a:lnTo>
                  <a:lnTo>
                    <a:pt x="614" y="1297"/>
                  </a:lnTo>
                  <a:lnTo>
                    <a:pt x="614" y="1297"/>
                  </a:lnTo>
                  <a:lnTo>
                    <a:pt x="669" y="1297"/>
                  </a:lnTo>
                  <a:lnTo>
                    <a:pt x="725" y="1311"/>
                  </a:lnTo>
                  <a:lnTo>
                    <a:pt x="767" y="1339"/>
                  </a:lnTo>
                  <a:lnTo>
                    <a:pt x="795" y="1366"/>
                  </a:lnTo>
                  <a:lnTo>
                    <a:pt x="823" y="1422"/>
                  </a:lnTo>
                  <a:lnTo>
                    <a:pt x="837" y="1450"/>
                  </a:lnTo>
                  <a:lnTo>
                    <a:pt x="837" y="1450"/>
                  </a:lnTo>
                  <a:close/>
                </a:path>
              </a:pathLst>
            </a:custGeom>
            <a:solidFill>
              <a:srgbClr val="f2f2f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768480" y="4667400"/>
              <a:ext cx="730440" cy="1121760"/>
            </a:xfrm>
            <a:custGeom>
              <a:avLst/>
              <a:gdLst/>
              <a:ahLst/>
              <a:rect l="l" t="t" r="r" b="b"/>
              <a:pathLst>
                <a:path w="418" h="642">
                  <a:moveTo>
                    <a:pt x="125" y="502"/>
                  </a:moveTo>
                  <a:lnTo>
                    <a:pt x="125" y="502"/>
                  </a:lnTo>
                  <a:lnTo>
                    <a:pt x="153" y="544"/>
                  </a:lnTo>
                  <a:lnTo>
                    <a:pt x="167" y="572"/>
                  </a:lnTo>
                  <a:lnTo>
                    <a:pt x="195" y="600"/>
                  </a:lnTo>
                  <a:lnTo>
                    <a:pt x="237" y="628"/>
                  </a:lnTo>
                  <a:lnTo>
                    <a:pt x="278" y="642"/>
                  </a:lnTo>
                  <a:lnTo>
                    <a:pt x="348" y="642"/>
                  </a:lnTo>
                  <a:lnTo>
                    <a:pt x="418" y="628"/>
                  </a:lnTo>
                  <a:lnTo>
                    <a:pt x="237" y="0"/>
                  </a:lnTo>
                  <a:lnTo>
                    <a:pt x="0" y="70"/>
                  </a:lnTo>
                  <a:lnTo>
                    <a:pt x="125" y="502"/>
                  </a:lnTo>
                  <a:close/>
                </a:path>
              </a:pathLst>
            </a:custGeom>
            <a:solidFill>
              <a:srgbClr val="f2f2f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17720" y="3302640"/>
              <a:ext cx="1875600" cy="3094560"/>
            </a:xfrm>
            <a:custGeom>
              <a:avLst/>
              <a:gdLst/>
              <a:ahLst/>
              <a:rect l="l" t="t" r="r" b="b"/>
              <a:pathLst>
                <a:path w="1073" h="1771">
                  <a:moveTo>
                    <a:pt x="390" y="1409"/>
                  </a:moveTo>
                  <a:lnTo>
                    <a:pt x="390" y="1409"/>
                  </a:lnTo>
                  <a:lnTo>
                    <a:pt x="418" y="1492"/>
                  </a:lnTo>
                  <a:lnTo>
                    <a:pt x="460" y="1562"/>
                  </a:lnTo>
                  <a:lnTo>
                    <a:pt x="516" y="1618"/>
                  </a:lnTo>
                  <a:lnTo>
                    <a:pt x="558" y="1674"/>
                  </a:lnTo>
                  <a:lnTo>
                    <a:pt x="613" y="1701"/>
                  </a:lnTo>
                  <a:lnTo>
                    <a:pt x="669" y="1729"/>
                  </a:lnTo>
                  <a:lnTo>
                    <a:pt x="781" y="1757"/>
                  </a:lnTo>
                  <a:lnTo>
                    <a:pt x="892" y="1771"/>
                  </a:lnTo>
                  <a:lnTo>
                    <a:pt x="990" y="1757"/>
                  </a:lnTo>
                  <a:lnTo>
                    <a:pt x="1073" y="1743"/>
                  </a:lnTo>
                  <a:lnTo>
                    <a:pt x="990" y="1478"/>
                  </a:lnTo>
                  <a:lnTo>
                    <a:pt x="990" y="1478"/>
                  </a:lnTo>
                  <a:lnTo>
                    <a:pt x="892" y="1492"/>
                  </a:lnTo>
                  <a:lnTo>
                    <a:pt x="822" y="1492"/>
                  </a:lnTo>
                  <a:lnTo>
                    <a:pt x="767" y="1478"/>
                  </a:lnTo>
                  <a:lnTo>
                    <a:pt x="711" y="1450"/>
                  </a:lnTo>
                  <a:lnTo>
                    <a:pt x="669" y="1409"/>
                  </a:lnTo>
                  <a:lnTo>
                    <a:pt x="641" y="1381"/>
                  </a:lnTo>
                  <a:lnTo>
                    <a:pt x="613" y="1311"/>
                  </a:lnTo>
                  <a:lnTo>
                    <a:pt x="460" y="809"/>
                  </a:lnTo>
                  <a:lnTo>
                    <a:pt x="753" y="725"/>
                  </a:lnTo>
                  <a:lnTo>
                    <a:pt x="683" y="460"/>
                  </a:lnTo>
                  <a:lnTo>
                    <a:pt x="376" y="558"/>
                  </a:lnTo>
                  <a:lnTo>
                    <a:pt x="237" y="84"/>
                  </a:lnTo>
                  <a:lnTo>
                    <a:pt x="237" y="84"/>
                  </a:lnTo>
                  <a:lnTo>
                    <a:pt x="209" y="42"/>
                  </a:lnTo>
                  <a:lnTo>
                    <a:pt x="181" y="14"/>
                  </a:lnTo>
                  <a:lnTo>
                    <a:pt x="139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42" y="28"/>
                  </a:lnTo>
                  <a:lnTo>
                    <a:pt x="14" y="56"/>
                  </a:lnTo>
                  <a:lnTo>
                    <a:pt x="0" y="98"/>
                  </a:lnTo>
                  <a:lnTo>
                    <a:pt x="0" y="154"/>
                  </a:lnTo>
                  <a:lnTo>
                    <a:pt x="390" y="1409"/>
                  </a:lnTo>
                  <a:close/>
                </a:path>
              </a:pathLst>
            </a:custGeom>
            <a:solidFill>
              <a:srgbClr val="f2f2f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70280" y="4277880"/>
              <a:ext cx="1850760" cy="2046240"/>
            </a:xfrm>
            <a:custGeom>
              <a:avLst/>
              <a:gdLst/>
              <a:ahLst/>
              <a:rect l="l" t="t" r="r" b="b"/>
              <a:pathLst>
                <a:path w="1059" h="1171">
                  <a:moveTo>
                    <a:pt x="1045" y="181"/>
                  </a:moveTo>
                  <a:lnTo>
                    <a:pt x="1045" y="181"/>
                  </a:lnTo>
                  <a:lnTo>
                    <a:pt x="1059" y="139"/>
                  </a:lnTo>
                  <a:lnTo>
                    <a:pt x="1059" y="84"/>
                  </a:lnTo>
                  <a:lnTo>
                    <a:pt x="1045" y="42"/>
                  </a:lnTo>
                  <a:lnTo>
                    <a:pt x="1003" y="14"/>
                  </a:lnTo>
                  <a:lnTo>
                    <a:pt x="1003" y="14"/>
                  </a:lnTo>
                  <a:lnTo>
                    <a:pt x="962" y="0"/>
                  </a:lnTo>
                  <a:lnTo>
                    <a:pt x="920" y="0"/>
                  </a:lnTo>
                  <a:lnTo>
                    <a:pt x="878" y="14"/>
                  </a:lnTo>
                  <a:lnTo>
                    <a:pt x="836" y="42"/>
                  </a:lnTo>
                  <a:lnTo>
                    <a:pt x="460" y="641"/>
                  </a:lnTo>
                  <a:lnTo>
                    <a:pt x="460" y="641"/>
                  </a:lnTo>
                  <a:lnTo>
                    <a:pt x="432" y="683"/>
                  </a:lnTo>
                  <a:lnTo>
                    <a:pt x="390" y="725"/>
                  </a:lnTo>
                  <a:lnTo>
                    <a:pt x="348" y="767"/>
                  </a:lnTo>
                  <a:lnTo>
                    <a:pt x="348" y="767"/>
                  </a:lnTo>
                  <a:lnTo>
                    <a:pt x="250" y="823"/>
                  </a:lnTo>
                  <a:lnTo>
                    <a:pt x="181" y="851"/>
                  </a:lnTo>
                  <a:lnTo>
                    <a:pt x="181" y="851"/>
                  </a:lnTo>
                  <a:lnTo>
                    <a:pt x="0" y="892"/>
                  </a:lnTo>
                  <a:lnTo>
                    <a:pt x="69" y="1171"/>
                  </a:lnTo>
                  <a:lnTo>
                    <a:pt x="278" y="1102"/>
                  </a:lnTo>
                  <a:lnTo>
                    <a:pt x="278" y="1102"/>
                  </a:lnTo>
                  <a:lnTo>
                    <a:pt x="306" y="1088"/>
                  </a:lnTo>
                  <a:lnTo>
                    <a:pt x="404" y="1046"/>
                  </a:lnTo>
                  <a:lnTo>
                    <a:pt x="460" y="1004"/>
                  </a:lnTo>
                  <a:lnTo>
                    <a:pt x="515" y="948"/>
                  </a:lnTo>
                  <a:lnTo>
                    <a:pt x="585" y="878"/>
                  </a:lnTo>
                  <a:lnTo>
                    <a:pt x="641" y="809"/>
                  </a:lnTo>
                  <a:lnTo>
                    <a:pt x="1045" y="181"/>
                  </a:lnTo>
                  <a:close/>
                </a:path>
              </a:pathLst>
            </a:custGeom>
            <a:solidFill>
              <a:srgbClr val="f2f2f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86200" y="29714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Kncv"/>
              </a:rPr>
              <a:t>Click to edit the title text format</a:t>
            </a:r>
            <a:endParaRPr b="0" lang="en-US" sz="32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Kncv"/>
              </a:rPr>
              <a:t>Second Outline Level</a:t>
            </a:r>
            <a:endParaRPr b="1" lang="en-US" sz="2500" spc="-1" strike="noStrike">
              <a:solidFill>
                <a:srgbClr val="000000"/>
              </a:solidFill>
              <a:latin typeface="Kncv"/>
            </a:endParaRPr>
          </a:p>
          <a:p>
            <a:pPr lvl="2" marL="914400" algn="ctr"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Kncv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Kncv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ncv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Kncv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ncv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Kncv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ncv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Kncv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ncv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Kncv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780000" y="4797360"/>
            <a:ext cx="2808000" cy="2060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rcRect l="0" t="0" r="8605" b="66607"/>
          <a:stretch/>
        </p:blipFill>
        <p:spPr>
          <a:xfrm>
            <a:off x="0" y="2133720"/>
            <a:ext cx="3094200" cy="2374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692360" y="2852280"/>
            <a:ext cx="720072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Verdana"/>
              </a:rPr>
              <a:t>Stop TB Partnership Coordinating </a:t>
            </a:r>
            <a:br>
              <a:rPr sz="2400"/>
            </a:br>
            <a:r>
              <a:rPr b="1" i="1" lang="en-US" sz="2400" spc="-1" strike="noStrike">
                <a:solidFill>
                  <a:srgbClr val="006600"/>
                </a:solidFill>
                <a:latin typeface="Verdana"/>
              </a:rPr>
              <a:t>Board Meeting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6600"/>
                </a:solidFill>
                <a:latin typeface="Verdana"/>
              </a:rPr>
              <a:t>23-24 October 200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6600"/>
                </a:solidFill>
                <a:latin typeface="Verdana"/>
              </a:rPr>
              <a:t>Berlin,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537920" y="1268280"/>
            <a:ext cx="728172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62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Kncv"/>
              </a:rPr>
              <a:t>Addressing the Second-line TB Drug Procurement crisis</a:t>
            </a:r>
            <a:endParaRPr b="1" lang="en-US" sz="3600" spc="-1" strike="noStrike">
              <a:solidFill>
                <a:srgbClr val="ff3300"/>
              </a:solidFill>
              <a:latin typeface="Kncv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-17640" y="4797360"/>
            <a:ext cx="1781280" cy="2060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551640" y="4797360"/>
            <a:ext cx="2592360" cy="2060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763640" y="4797360"/>
            <a:ext cx="2016360" cy="2060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4724280"/>
            <a:ext cx="9144000" cy="1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50920" y="333360"/>
            <a:ext cx="3254400" cy="848520"/>
            <a:chOff x="250920" y="333360"/>
            <a:chExt cx="3254400" cy="848520"/>
          </a:xfrm>
        </p:grpSpPr>
        <p:pic>
          <p:nvPicPr>
            <p:cNvPr id="100" name="" descr=""/>
            <p:cNvPicPr/>
            <p:nvPr/>
          </p:nvPicPr>
          <p:blipFill>
            <a:blip r:embed="rId6"/>
            <a:stretch/>
          </p:blipFill>
          <p:spPr>
            <a:xfrm>
              <a:off x="250920" y="333360"/>
              <a:ext cx="325440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50920" y="87480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Eras Demi ITC"/>
                </a:rPr>
                <a:t>MDR-TB Working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Kncv"/>
              </a:rPr>
              <a:t>Underlying problems (3)</a:t>
            </a:r>
            <a:endParaRPr b="1" lang="en-US" sz="40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 unified quality standards and conditions for the procurement and supply of second line drugs (GF, WHO and UNITAI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untries do not acknowledge the consequences of using non-quality assured SLDs 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Kncv"/>
              </a:rPr>
              <a:t>Decisions of WG during meeting in Tbilisi, September, 2007</a:t>
            </a:r>
            <a:endParaRPr b="1" lang="en-US" sz="36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WG declares a major crisis in the drug supply of second-line anti-TB drugs to GLC approved program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subgroup on drug management was established. TOR and short term action plan approv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ring the crisis to the attention of WHO/STB and Coordinating Board of the STB-Partnership emphasizing the serious consequ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Kncv"/>
              </a:rPr>
              <a:t>Specific WG Recommendations (1)</a:t>
            </a:r>
            <a:endParaRPr b="1" lang="en-US" sz="36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cument supply imbal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buffer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stablish mechanism for advance purchase commitments with GF, UNITA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sh WHO to increase prequalification capacity and assist 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Kncv"/>
              </a:rPr>
              <a:t>Specific WG recommendations (2)</a:t>
            </a:r>
            <a:endParaRPr b="1" lang="en-US" sz="36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41672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olve GDF staffing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nefit from immediate temporary secondments offered by PIH, MSF and TDF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rify needs to create a transparent, well defined regularly updated source of marke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plan of action of the WG sub-committ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Kncv"/>
              </a:rPr>
              <a:t>Recommendations GDF Business Advisory Committee BAC (1)</a:t>
            </a:r>
            <a:endParaRPr b="1" lang="en-US" sz="36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o establish a Task Force on market dynamics to prepare a situation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quest that WHO/EDM allow GDF to replace its existing ad hoc pre-qualification process with one based on an initial bio-equivalence study for GMP-certified manufacturers that wish to tend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Kncv"/>
              </a:rPr>
              <a:t>Recommendations of the BAC (2)</a:t>
            </a:r>
            <a:endParaRPr b="1" lang="en-US" sz="36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DF to fund bio-equivalence studies to motivate suppliers and to ease the application process for WHO pre-qual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DF and WHO/EDM should specify TA interventions and priority prequalification bottlenecks per product/supplier that require intensified support over the next 12 month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Kncv"/>
              </a:rPr>
              <a:t>Actions already taken</a:t>
            </a:r>
            <a:endParaRPr b="1" lang="en-US" sz="40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1773360"/>
            <a:ext cx="708660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3333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Verdana"/>
              </a:rPr>
              <a:t>Formal letter sent by MDR-TB WG and GLC chairs to WHO and STB-P  request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3333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Kncv"/>
              </a:rPr>
              <a:t>For WHO to give priority to prequalification of second-line drugs </a:t>
            </a:r>
            <a:endParaRPr b="1" lang="en-US" sz="2000" spc="-1" strike="noStrike">
              <a:solidFill>
                <a:srgbClr val="000000"/>
              </a:solidFill>
              <a:latin typeface="Kncv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3333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Kncv"/>
              </a:rPr>
              <a:t>To ensure effective long-term solutions to the human resource shortage in GDF </a:t>
            </a:r>
            <a:endParaRPr b="1" lang="en-US" sz="2000" spc="-1" strike="noStrike">
              <a:solidFill>
                <a:srgbClr val="000000"/>
              </a:solidFill>
              <a:latin typeface="Kncv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3333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Verdana"/>
              </a:rPr>
              <a:t>A draft plan of action for the remainder of 2007 developed to address immediate needs (part of TOR of new subgrou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3333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Verdana"/>
              </a:rPr>
              <a:t>A new model for GLC procurement developed and being piloted (improved oversight  and monitoring of supplier and agent performance)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Kncv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Kncv"/>
              </a:rPr>
              <a:t>Decisions requested from the Stop TB Coordinating Board</a:t>
            </a:r>
            <a:endParaRPr b="1" lang="en-US" sz="36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ly acknowledge the SLD-crisis and it’s consequences for patients, public health, GLC and donor commit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s at the highest level of governments and organizations to establish priorities, assign responsibilities and allocate resources to resolve the cri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ree on actions to resolve staffing shortages (long term solutions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dorse recommendations of WG &amp; BA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Kncv"/>
              </a:rPr>
              <a:t>Action required (1)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Kncv"/>
              </a:rPr>
              <a:t>Letter to WHO DG asking for</a:t>
            </a:r>
            <a:endParaRPr b="1" lang="en-US" sz="36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olution of GDF recruitment barrier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deration of the ad hoc prequalification option recommended by the BA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itment to prioritizing assistance and prequalification of SLD manufacturers (timelines, milestones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-actively informing countries of the international public health implications of the use of non-QA drug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ouraging countries to relax import barriers while assisting their local producers to get pre-qualifie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Kncv"/>
              </a:rPr>
              <a:t>Action required (2)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Kncv"/>
              </a:rPr>
              <a:t>Letter to GF and UNITAID requesting</a:t>
            </a:r>
            <a:endParaRPr b="1" lang="en-US" sz="36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360" y="2204640"/>
            <a:ext cx="70866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evelopment of unified quality standards and conditions for procurement and supply of SL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chanism for underwriting advance purchase commitments for second line drugs (to reduce lead tim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Kncv"/>
              </a:rPr>
              <a:t>Content of the presentation by the MDR-TB WG and GDF</a:t>
            </a:r>
            <a:endParaRPr b="1" lang="en-US" sz="36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ckground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econd Line anti-TB Drug (SLD)-procurement crisis: facts and underlying 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quences of the cri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mmendations /actions by the MDR-TB WG and GDF Business Advisory Committee (BA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rt requested from the C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86200" y="29714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Kncv"/>
              </a:rPr>
              <a:t>Thank you for your attention and looking forward to the CB discussions</a:t>
            </a:r>
            <a:br>
              <a:rPr sz="2800"/>
            </a:br>
            <a:endParaRPr b="0" lang="en-US" sz="28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187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 behalf of the MDR-TB W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itty Lambreg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00000" y="4149720"/>
            <a:ext cx="536760" cy="792000"/>
          </a:xfrm>
          <a:prstGeom prst="upDownArrow">
            <a:avLst>
              <a:gd name="adj1" fmla="val 50000"/>
              <a:gd name="adj2" fmla="val 29373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32720" y="5086440"/>
            <a:ext cx="2087280" cy="1079280"/>
          </a:xfrm>
          <a:prstGeom prst="roundRect">
            <a:avLst>
              <a:gd name="adj" fmla="val 16667"/>
            </a:avLst>
          </a:prstGeom>
          <a:solidFill>
            <a:srgbClr val="ff9900">
              <a:alpha val="9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harmaceutic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0" y="3141720"/>
            <a:ext cx="2232000" cy="1008000"/>
          </a:xfrm>
          <a:prstGeom prst="roundRect">
            <a:avLst>
              <a:gd name="adj" fmla="val 16667"/>
            </a:avLst>
          </a:prstGeom>
          <a:solidFill>
            <a:srgbClr val="008000">
              <a:alpha val="8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Expert committe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GL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Kncv"/>
              </a:rPr>
              <a:t>GLC model</a:t>
            </a:r>
            <a:r>
              <a:rPr b="0" lang="ru-RU" sz="4000" spc="-1" strike="noStrike">
                <a:solidFill>
                  <a:srgbClr val="ff3300"/>
                </a:solidFill>
                <a:latin typeface="Kncv"/>
              </a:rPr>
              <a:t> </a:t>
            </a:r>
            <a:r>
              <a:rPr b="0" lang="en-GB" sz="4000" spc="-1" strike="noStrike">
                <a:solidFill>
                  <a:srgbClr val="ff3300"/>
                </a:solidFill>
                <a:latin typeface="Kncv"/>
              </a:rPr>
              <a:t>: action cycle</a:t>
            </a:r>
            <a:endParaRPr b="1" lang="en-US" sz="40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2611800" y="3229560"/>
            <a:ext cx="536400" cy="792360"/>
          </a:xfrm>
          <a:prstGeom prst="upDownArrow">
            <a:avLst>
              <a:gd name="adj1" fmla="val 50000"/>
              <a:gd name="adj2" fmla="val 2940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36000" y="4149720"/>
            <a:ext cx="536400" cy="792000"/>
          </a:xfrm>
          <a:prstGeom prst="upDownArrow">
            <a:avLst>
              <a:gd name="adj1" fmla="val 50000"/>
              <a:gd name="adj2" fmla="val 29393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2683800">
            <a:off x="1989000" y="1963440"/>
            <a:ext cx="720720" cy="866880"/>
          </a:xfrm>
          <a:custGeom>
            <a:avLst/>
            <a:gdLst/>
            <a:ahLst/>
            <a:rect l="l" t="t" r="r" b="b"/>
            <a:pathLst>
              <a:path w="876" h="820">
                <a:moveTo>
                  <a:pt x="0" y="169"/>
                </a:moveTo>
                <a:lnTo>
                  <a:pt x="876" y="0"/>
                </a:lnTo>
                <a:lnTo>
                  <a:pt x="583" y="820"/>
                </a:lnTo>
                <a:lnTo>
                  <a:pt x="0" y="169"/>
                </a:lnTo>
                <a:lnTo>
                  <a:pt x="0" y="16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270080"/>
            <a:ext cx="5329080" cy="4824360"/>
          </a:xfrm>
          <a:prstGeom prst="donut">
            <a:avLst>
              <a:gd name="adj" fmla="val 5759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141720"/>
            <a:ext cx="2035080" cy="934920"/>
          </a:xfrm>
          <a:prstGeom prst="roundRect">
            <a:avLst>
              <a:gd name="adj" fmla="val 16667"/>
            </a:avLst>
          </a:prstGeom>
          <a:solidFill>
            <a:srgbClr val="00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GLC secretari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59640" y="3141720"/>
            <a:ext cx="2017800" cy="946080"/>
          </a:xfrm>
          <a:prstGeom prst="roundRect">
            <a:avLst>
              <a:gd name="adj" fmla="val 16667"/>
            </a:avLst>
          </a:prstGeom>
          <a:solidFill>
            <a:srgbClr val="0000ff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Procure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0" y="1125360"/>
            <a:ext cx="2376720" cy="936720"/>
          </a:xfrm>
          <a:prstGeom prst="roundRect">
            <a:avLst>
              <a:gd name="adj" fmla="val 16667"/>
            </a:avLst>
          </a:prstGeom>
          <a:solidFill>
            <a:srgbClr val="ff00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Country/Projec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8937600">
            <a:off x="6227280" y="1917360"/>
            <a:ext cx="720720" cy="866880"/>
          </a:xfrm>
          <a:custGeom>
            <a:avLst/>
            <a:gdLst/>
            <a:ahLst/>
            <a:rect l="l" t="t" r="r" b="b"/>
            <a:pathLst>
              <a:path w="876" h="820">
                <a:moveTo>
                  <a:pt x="0" y="169"/>
                </a:moveTo>
                <a:lnTo>
                  <a:pt x="876" y="0"/>
                </a:lnTo>
                <a:lnTo>
                  <a:pt x="583" y="820"/>
                </a:lnTo>
                <a:lnTo>
                  <a:pt x="0" y="169"/>
                </a:lnTo>
                <a:lnTo>
                  <a:pt x="0" y="16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518800">
            <a:off x="3924000" y="5589720"/>
            <a:ext cx="792000" cy="795240"/>
          </a:xfrm>
          <a:custGeom>
            <a:avLst/>
            <a:gdLst/>
            <a:ahLst/>
            <a:rect l="l" t="t" r="r" b="b"/>
            <a:pathLst>
              <a:path w="876" h="820">
                <a:moveTo>
                  <a:pt x="0" y="169"/>
                </a:moveTo>
                <a:lnTo>
                  <a:pt x="876" y="0"/>
                </a:lnTo>
                <a:lnTo>
                  <a:pt x="583" y="820"/>
                </a:lnTo>
                <a:lnTo>
                  <a:pt x="0" y="169"/>
                </a:lnTo>
                <a:lnTo>
                  <a:pt x="0" y="16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8200" y="5086440"/>
            <a:ext cx="2071800" cy="1103400"/>
          </a:xfrm>
          <a:prstGeom prst="roundRect">
            <a:avLst>
              <a:gd name="adj" fmla="val 16667"/>
            </a:avLst>
          </a:prstGeom>
          <a:solidFill>
            <a:srgbClr val="008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Technica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Support / M&amp;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50920" y="1700280"/>
            <a:ext cx="1512720" cy="1081080"/>
          </a:xfrm>
          <a:prstGeom prst="wedgeEllipseCallout">
            <a:avLst>
              <a:gd name="adj1" fmla="val -13907"/>
              <a:gd name="adj2" fmla="val 7599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B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08720" y="1844640"/>
            <a:ext cx="1584360" cy="1081080"/>
          </a:xfrm>
          <a:prstGeom prst="wedgeEllipseCallout">
            <a:avLst>
              <a:gd name="adj1" fmla="val -8717"/>
              <a:gd name="adj2" fmla="val 6248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P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Kncv"/>
              </a:rPr>
              <a:t>Procurement cycle: roles and inputs</a:t>
            </a:r>
            <a:endParaRPr b="1" lang="en-US" sz="40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121" name=""/>
          <p:cNvSpPr/>
          <p:nvPr/>
        </p:nvSpPr>
        <p:spPr>
          <a:xfrm>
            <a:off x="5688000" y="4437000"/>
            <a:ext cx="345600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rcha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 conso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livery to the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076640"/>
            <a:ext cx="396072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ountry/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gistics and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1125360"/>
            <a:ext cx="288108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HO/E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qualification project; GMP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ferential prices (negotiated by WHO and partn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24360" y="1197000"/>
            <a:ext cx="316728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99"/>
                </a:solidFill>
                <a:uFillTx/>
                <a:latin typeface="Arial"/>
              </a:rPr>
              <a:t>WHO/STP/G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Coordination of 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Quality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Market review, forec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556000" y="1917720"/>
            <a:ext cx="3736440" cy="3436560"/>
            <a:chOff x="2556000" y="1917720"/>
            <a:chExt cx="3736440" cy="3436560"/>
          </a:xfrm>
        </p:grpSpPr>
        <p:sp>
          <p:nvSpPr>
            <p:cNvPr id="126" name=""/>
            <p:cNvSpPr/>
            <p:nvPr/>
          </p:nvSpPr>
          <p:spPr>
            <a:xfrm>
              <a:off x="2781000" y="1917720"/>
              <a:ext cx="1946520" cy="152460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83840" y="3824280"/>
              <a:ext cx="1900800" cy="153000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solidFill>
              <a:srgbClr val="dddddd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56000" y="3266280"/>
              <a:ext cx="1713240" cy="181980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solidFill>
              <a:srgbClr val="ff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56160" y="2158560"/>
              <a:ext cx="1736280" cy="180432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solidFill>
              <a:srgbClr val="ff99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500720" y="5445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16720" y="3573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68360" y="3645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284720" y="134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Kncv"/>
              </a:rPr>
              <a:t>The crisis: severe shortage of 2</a:t>
            </a:r>
            <a:r>
              <a:rPr b="1" lang="en-US" sz="3200" spc="-1" strike="noStrike" baseline="30000">
                <a:solidFill>
                  <a:srgbClr val="ff3300"/>
                </a:solidFill>
                <a:latin typeface="Kncv"/>
              </a:rPr>
              <a:t>nd</a:t>
            </a:r>
            <a:r>
              <a:rPr b="1" lang="en-US" sz="3200" spc="-1" strike="noStrike">
                <a:solidFill>
                  <a:srgbClr val="ff3300"/>
                </a:solidFill>
                <a:latin typeface="Kncv"/>
              </a:rPr>
              <a:t>-line anti-TB drugs</a:t>
            </a:r>
            <a:endParaRPr b="1" lang="en-US" sz="32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e supply-demand imbalance; Precise figures unknow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ult is a global shortage of quality assured second-line anti-TB dru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ntry shortages (also caused by poor forecasting, registration restrictions, import barriers, poor drug-management, delayed advanced paymen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Kncv"/>
              </a:rPr>
              <a:t>Consequences of the crisis</a:t>
            </a:r>
            <a:endParaRPr b="1" lang="en-US" sz="40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oidable deaths and suffering as MDR-TB programmes report interruption of sto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programmes delayed (Russia, Indi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nadequate regimens resulting in XDR-T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utation of GLC, GDF and STB-Partnership at stak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untries are left with no other option than to use locally produced drugs of unknown qu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mplementation of GP 2006-2015 and  the MDR/XDR response plan are seriously  jeopardiz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Kncv"/>
              </a:rPr>
              <a:t>Core Problems</a:t>
            </a:r>
            <a:endParaRPr b="1" lang="en-US" sz="40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ck of collective sense of urgency, and political engageme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aque and limited mark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rrent demand outstrips capa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tential manufacturers face uncertain returns, expensive and long prequalification process…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staff in GD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funding and coord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Kncv"/>
              </a:rPr>
              <a:t>Underlying problems (1)</a:t>
            </a:r>
            <a:endParaRPr b="1" lang="en-US" sz="40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ck of capacity within WHO/EDM for pre-qualification (prioritiza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ck of pro-active support to manufacturers to pre-qualif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reliable process for short- and longer term foreca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strong player to assure rapid payment and assume risk e.g. for advance purchase commit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ck of specialized full time staff within GD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Kncv"/>
              </a:rPr>
              <a:t>Underlying problems (2)</a:t>
            </a:r>
            <a:endParaRPr b="1" lang="en-US" sz="4000" spc="-1" strike="noStrike">
              <a:solidFill>
                <a:srgbClr val="ff3300"/>
              </a:solidFill>
              <a:latin typeface="Kncv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ministrative barriers within WHO to establish posts and recruit staff (quantity and qualit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ce of patient enrollment hard to predict (new MDR-TB programm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rt shelf lives…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ck of firm demand forecast results in irregular manufactu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3:18:33Z</dcterms:created>
  <dc:creator>lambregts</dc:creator>
  <dc:description/>
  <dc:language>en-US</dc:language>
  <cp:lastModifiedBy>lambregts</cp:lastModifiedBy>
  <dcterms:modified xsi:type="dcterms:W3CDTF">2007-10-22T09:13:35Z</dcterms:modified>
  <cp:revision>19</cp:revision>
  <dc:subject/>
  <dc:title>Addressing the Second-line TB Drug Procurement crisis</dc:title>
</cp:coreProperties>
</file>