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1D6-43BD-4650-B987-B81720E7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AA94-5F50-466A-B0CE-67187C06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DBB0-ACD4-4A45-BA17-04F80B8B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296E-6AB8-44E4-82FE-E7202605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E9F9-4A8D-47A7-85FF-CB979EB5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A5A8-C102-4776-A1C8-BFFD9A51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CAFE-9BC4-4A01-8B20-7596C561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DF11-82A8-4412-A0F1-6DB8DB3D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D1E8-0184-4B14-8513-B8EE4DA1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EE0D-FC9B-4F7A-BDE5-F57BA5F9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7761-35BD-400F-8A97-FD95BA1A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D50E-C892-4C31-8EE5-1C1EB217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4EB3-42E4-4596-BE51-4138A9BF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4273-7BB9-421F-8400-2280067F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B84A-03B5-40AB-808A-5E1A0E20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1F17-3551-4A70-BA84-A5A251D6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BB8F-8DB0-42EA-8B3E-9D920600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B64F-5B99-44B9-8FCB-351DE73D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860-AEB4-400B-9D43-8127F211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920E-6717-46F2-8FA5-5C7EEC68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47EB-3D1E-49FD-A76C-96B1EE4F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8246-4A20-41C6-9AD9-A17EAD32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34AE-00FF-4A26-9AB6-4A7278C8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59AC-534E-4A18-B7F3-E8FCD1F7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FA50-9253-455D-81DF-8B12985A707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926B-E1ED-45DC-911C-410C659E7F97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stoptb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.kolbe</cp:lastModifiedBy>
  <dcterms:modified xsi:type="dcterms:W3CDTF">2007-10-23T04:49:03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1497786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20 Oct 2007.ppt</vt:lpwstr>
  </property>
  <property fmtid="{D5CDD505-2E9C-101B-9397-08002B2CF9AE}" pid="6" name="_NewReviewCycle">
    <vt:lpwstr/>
  </property>
  <property fmtid="{D5CDD505-2E9C-101B-9397-08002B2CF9AE}" pid="7" name="_PreviousAdHocReviewCycleID">
    <vt:r8>80680260</vt:r8>
  </property>
  <property fmtid="{D5CDD505-2E9C-101B-9397-08002B2CF9AE}" pid="8" name="_ReviewingToolsShownOnce">
    <vt:lpwstr/>
  </property>
</Properties>
</file>