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05A-AE82-4B04-A8A6-18CD13FF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E0BF-965B-4B8C-8E66-55B10904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F94-8F2A-46B8-B0A0-58A7C860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7BB6-8998-4242-9858-02FFD1E5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639A5-09E5-4E8E-8659-1E0B74F3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FB183-111D-4BBC-9445-413194D9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2DE01-F96E-4BAC-B149-EFC3C3DC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B03C0-DB6A-49FD-9717-E7CA432B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703CC-3718-4D63-A73C-DB87B44D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94AF8-8F92-45BD-B9FD-03F8B356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A8AD9-C915-4214-9EBC-0BE73F4C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ABC-99D5-495E-A770-7CE3C52C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66220-0CFB-4A31-B983-E1A22727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02F9F-3E7E-4826-B5D8-77E7D5B5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B15CF-EBDE-4FDC-822B-D1EE794B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08C05-5EFE-42E8-9DA1-6C939D9A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B011B-2278-4A99-B4D5-7E41975A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C4077-E368-4565-BD26-7722AB4B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ADC2E-CC87-41BB-8D0E-2F0A9F0C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73F2D-F306-4A99-A1B6-C8A30756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67541-92A7-4D97-98FA-EA674EE6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0E73B-BCFA-46DA-AC2D-E5A8BBB6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8B6-1091-4EB6-9831-3D0967FB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5B719-556B-442F-AE7F-19732084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8D2D3-ADBB-4E13-B5DA-C81B771E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8422F-7B41-4861-BBBE-A460E5DE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225B1-A2C1-4027-98E7-43C5E669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AD45C-8B17-44DC-893D-6036551D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6D071-3C91-40FC-A5FC-8D3AA8F3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5BAB6-E07F-4AA5-93B8-E97B06B0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7346-4A9D-45DF-991C-D0224CE7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E1B7-2BD6-427D-A4B4-282F6BA1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8AE-AF7D-4E01-815D-927110B0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805-4320-4B1C-B41B-9DEE2190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E16-0CC5-4F7C-A8E3-5746F520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E20-183A-4B2D-9CF8-54701A02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E2EB-CAE3-4519-8129-09D02AD93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7537-D700-4095-B7F0-281DEC2085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4667-1DE5-4ED2-9C3A-080F4BDCEA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B Research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d Syed, Joanne Carter, Barbara Laughon, Peter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33280" y="463680"/>
          <a:ext cx="8675640" cy="59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3680"/>
                    <a:ext cx="867564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7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9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64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57200" y="46836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836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3808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569880" y="539640"/>
          <a:ext cx="7975800" cy="545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539640"/>
                    <a:ext cx="7975800" cy="54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2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been accomplished s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pecific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Why are the GP2 numbers insuffici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include basic science or fully account for operation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account for research trial capacity building to address the R&amp;D needs for new tools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s of the funding available for TB new tools going into the first year of GP2 (2006) is less than what TAG tracked for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s available in 2005 needs to be increased by nearly 5 fold in order for the GP2 resource needs to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440" y="572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34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Y05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 2006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e 5-fol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AG 10 y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y new t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iagnos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5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vaccin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tools sub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d/Infrastru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4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TB R&amp;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TB R&amp;D Funding is Really Needed (Dollars in Million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8120" y="5572080"/>
            <a:ext cx="12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" y="5400720"/>
            <a:ext cx="1355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4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20" y="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 are the Global Plan Numbers Insuffic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572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3429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50292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 comprehensive global movement for TB R&amp;D to reach Global Plan 2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R&amp;D expenditures and activities need to be systematized and tracked ann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should increase reporting transpa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recommends 5-fold increase, to 2 B/y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)  $1.05B/year is needed for new tools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 $950M/year is needed for basic science, infrastructure development, and operational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8120" y="5842080"/>
            <a:ext cx="105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" y="567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52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ssessment every 1-2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is data to identify new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ting for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Fair sha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alculating Country Fair Shares of R&amp;D Need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anne C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/RESULTS Educational F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sic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% of annual R&amp;D needs to be contributed by wealthy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 calculated as country’s percentage of global wealth (Country GNI 2005* as % of total World GNI 200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s estimated for 22 OECD DAC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*GNI source: World Development Indicators database, World Bank, 1 July 2006. Online. http://siteresources.worldbank.org/DATASTATISTICS/Resources/GNI.pd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998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he GPSTB 2006-20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900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59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AG expanded R&amp;D estima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 b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577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utstanding Issues/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ision on overall annual R&amp;D ne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ing and expanding current donor financing database building on TAG repo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odolog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ECD/DAC countries only? Include other Higher-Income Countries (e.g. Middle East – Bahrain, Brunei, Kuwait, Qatar, Saudi Arabia, UAE; Asia – Hong Kong, South Korea, Singapore)? Separate “share” for the EC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or countries providing 100% of R&amp;D? What about private sector and foundations? What about some endemic countrie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urning Fair Shares into an Advocacy Tool: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Example of the GFATM Donor Report Card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ding Sc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% of each country’s fair share pledg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+  =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≥ 11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   =  100-10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B    = 81-9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C    = 61-8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D    = 51-6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F    = 0-5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N   = In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that R&amp;D is critical to GP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is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e that the Partnership should advocate for increas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are current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Does Report Card Look Lik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35440" cy="4976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830760" cy="4952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0" y="1371600"/>
            <a:ext cx="0" cy="495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research activities in TB and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Federal TB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lobal funders of basic and clinical science (NIH, Gates Foundation, USAID, TB Alliance, FIND, Aeras, CDC, MRC, Wellcome Trust, EC, companies) to meet, compare portfolios and clinical activities/sites/resources, identify gaps and potential syner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utilization – coordinate lab, human resources, and clinic strengthening to benefit care and expand research opportunities and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uture cooperative initiatives to fill research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of New Tools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connections fo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 concern re: duplication of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mobilization of new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dvocacy positions based on scientific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tender for resource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rant will cover some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ate fair shar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SM can best use TA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d hoc group to map research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se activities fit within W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Deliverables (6 mont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awarded for tracking (Part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top donors (RESULTS/T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plan (AC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f research activities (ad hoc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accomplished si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“research” - S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y and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zing impact of curr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&amp; D for new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res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current resources -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5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funds TB R&amp;D; What do they fund; What are the gaps, What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indra Feuer, Javid Sy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b Huff, &amp; Mark Harr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th 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9-3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B R&amp;D spending fo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2005 actually compare to GP’s assumptions for 2006 and goals for 20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compare to what is really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 theory of change is borne out of 25 years of experience in HIV research activis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searchers+Policy Makers+Community Activists= Increased Political Will+ Resources+ Efficient and Effectiv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development of a comprehensive research agenda that is implemented in a coordinated fashion can greatly improve research effectiveness and 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8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496800"/>
          <a:ext cx="8217000" cy="589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96800"/>
                    <a:ext cx="82170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0:26:52Z</dcterms:created>
  <dc:creator>Peter Small</dc:creator>
  <dc:description/>
  <dc:language>en-US</dc:language>
  <cp:lastModifiedBy>Peter Small</cp:lastModifiedBy>
  <dcterms:modified xsi:type="dcterms:W3CDTF">2006-11-30T01:47:02Z</dcterms:modified>
  <cp:revision>22</cp:revision>
  <dc:subject/>
  <dc:title>Global TB Research Movement</dc:title>
</cp:coreProperties>
</file>