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A3BB-D9CA-4602-A012-B56587E6A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40CD-EE44-41C5-B89A-401462DD5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This model could vary for different countries given potential opportunities for or barriers to budget lin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172-34DB-44B5-9376-E965BF66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D888-2FBF-4806-9226-B0A3A408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514-19D9-4287-BC47-E9ED7A75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3BF-BF35-4DF7-9EE5-16E39CFF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838-046A-4F63-A2C5-8B4594F4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9D3C-2574-4AB7-BD0E-568864FD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5CE-5BDB-4056-9D92-4460B97E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A93-4E5F-427A-A89F-7A29445B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980-5014-4CFC-8509-FDA8A373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F7C-4551-4BF6-BD7F-D487C07B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CF3-628A-4C1F-9945-37641481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43C4-F593-4DCF-8D61-173C3B3D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4B6F-8C7F-45E4-9CD7-C37B369F8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stoptb.org/gdf/newsevents/newsarchive.as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CB%20Jakarta%20priting%20Nov.%2026/Table%20insert%20CB%20presentation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92000" y="2708280"/>
            <a:ext cx="6048360" cy="1224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Securing timely access to quality,  affordable TB drug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7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GB" sz="4800" spc="-1" strike="noStrike">
                <a:solidFill>
                  <a:srgbClr val="cc0000"/>
                </a:solidFill>
                <a:latin typeface="Copperplate Gothic Bold"/>
              </a:rPr>
              <a:t>Global Drug Fac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360" y="4724280"/>
            <a:ext cx="135756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70680" y="4292640"/>
            <a:ext cx="1273320" cy="182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8600" y="6103800"/>
            <a:ext cx="995400" cy="7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488808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 – Dr. Jeremiah Chak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e – 30 Nov.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3320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grants are in principle for 3 years and are subject to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One condition: public sector/donor funding for TB control activities (including anti-TB drugs) will not be reduced during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ny countries still require financial assistance for anti-TB drugs after completing a 3-year gr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6562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99760" y="256536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F grants offer opportunity to leverage short-term financial assistance for the long-term financial sustainability of N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requests CB consider more proactive approaches to ensuring broader political commitment from countries to finance their TB drug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836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ke annual increases in public sector funding for anti-TB drugs a condition of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Extend the GDF grant cycle from 3 to 5 years to allow countries sufficient time to build the financial budget lines required to pay for drugs themse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4000" y="5157720"/>
            <a:ext cx="792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nsider introducing a 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SimSun"/>
              </a:rPr>
              <a:t>Financial Sustainability Planning (FSP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process as a component of the GDF grant-making process for either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216400">
            <a:off x="-142560" y="54752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1052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7487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intain a fixed grant value throughout the duration of GDF grant, with funds transitioning from purchase of TB drugs to technical assistance for drug management in-count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s with options 1 and 2 consider a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SimSun"/>
              </a:rPr>
              <a:t>FSP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with this o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216400">
            <a:off x="506520" y="56228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2268360" y="558972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rush Script MT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llustration of Option 3 – Next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3: Building drug management capacity while encouraging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44880" y="103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4880" y="130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44880" y="158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488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484280"/>
          <a:ext cx="8353440" cy="4897080"/>
        </p:xfrm>
        <a:graphic>
          <a:graphicData uri="http://schemas.openxmlformats.org/drawingml/2006/table">
            <a:tbl>
              <a:tblPr/>
              <a:tblGrid>
                <a:gridCol w="2444760"/>
                <a:gridCol w="1258920"/>
                <a:gridCol w="1184400"/>
                <a:gridCol w="1180800"/>
                <a:gridCol w="1181160"/>
                <a:gridCol w="1103400"/>
              </a:tblGrid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 value of grant remains constant each year of g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requires an increase in national budget for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6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more of GDF grant money used for technical assistance, as countries take more responsibility for financing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06728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A 5-year grant is a longer term commitment (in principl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options adopting an FSP process would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ment of a GDF framework for financial sustainability planning &amp; implementation includ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Guidelines for the Development of Financial Sustainability Pla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 for count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tracting of consultant(s) to do the above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Missions to support selected count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1200" y="29239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Brush Script MT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424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test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osal for Board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&amp; UNITAID – Paediatric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920" y="0"/>
            <a:ext cx="475308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chievements: 10 x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946080"/>
            <a:ext cx="8785440" cy="5722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282528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AID – Innovative financing initiative 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V, TB &amp; Malar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targeted at niches where innovative changes can be made thr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 interventions backed by sustainable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used in 2006/2007 at WHO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. 9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DF approved as programmatic partn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UNITAID for Paediatric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t. 12 Official Call for Grant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sued with deadline of Nov. 6 (sensitization communications sent Sept.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to be signed imminently between STB Partnership &amp; UNIT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1</a:t>
            </a:r>
            <a:r>
              <a:rPr b="0" lang="en-GB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372360" y="960480"/>
            <a:ext cx="2458800" cy="141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14842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First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DF TRC met 13 – 1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ediatric Applications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Further Consideration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AID Boar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B CB Exec. Ctt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6360" y="4724280"/>
            <a:ext cx="4032360" cy="1989360"/>
          </a:xfrm>
          <a:custGeom>
            <a:avLst/>
            <a:gdLst>
              <a:gd name="textAreaLeft" fmla="*/ 920520 w 4032360"/>
              <a:gd name="textAreaRight" fmla="*/ 3111840 w 4032360"/>
              <a:gd name="textAreaTop" fmla="*/ 453960 h 1989360"/>
              <a:gd name="textAreaBottom" fmla="*/ 1535400 h 198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6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ediatric Patient Treat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roved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49440" y="1260360"/>
            <a:ext cx="81705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ing Board endorses creation of BAC April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issues invitation of EOI July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dication committee finalizes selection Oct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7 member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ory teleconference held 22 Nov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AC meeting week of 12 March '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DF Business Advisory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5805360"/>
            <a:ext cx="2095200" cy="764280"/>
          </a:xfrm>
          <a:prstGeom prst="rect">
            <a:avLst/>
          </a:prstGeom>
          <a:solidFill>
            <a:srgbClr val="b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349200" indent="-349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12000" y="5734080"/>
            <a:ext cx="704880" cy="86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260360"/>
            <a:ext cx="88930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ection of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Monotype Corsiva"/>
              </a:rPr>
              <a:t>gtz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new Procurement Agent Sept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tion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3 Diagnostic Ki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GDF's catalogue effective Jan. '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Strategic plan 2006-2010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/GLC procurement convergence complete Dec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al UNITAID approval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2600" spc="-1" strike="noStrike" baseline="30000">
                <a:solidFill>
                  <a:srgbClr val="cc0000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 line TB Drug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rants via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GDF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600" spc="-1" strike="noStrike">
                <a:solidFill>
                  <a:srgbClr val="808000"/>
                </a:solidFill>
                <a:latin typeface="Arial"/>
              </a:rPr>
              <a:t>GL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~ US$ 10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ected Nov. 30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neral upd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ORDINATING BOARD DECISION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lping GDF Grante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o Achieve </a:t>
            </a:r>
            <a:br>
              <a:rPr sz="4000"/>
            </a:br>
            <a:r>
              <a:rPr b="1" lang="en-GB" sz="4000" spc="-1" strike="noStrike">
                <a:solidFill>
                  <a:srgbClr val="808000"/>
                </a:solidFill>
                <a:latin typeface="Arial"/>
              </a:rPr>
              <a:t>Financial Sustainabilit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user</cp:lastModifiedBy>
  <dcterms:modified xsi:type="dcterms:W3CDTF">2006-11-29T15:53:32Z</dcterms:modified>
  <cp:revision>52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