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2D3A7-E9B8-4710-83EA-BEDA8AB03F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Strategic objectives and targe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is framework is designed to implement intensive, sustainab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d detailed communication strategies in all high-burden countries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s well as support strategies in medium-burden countr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over the next 10 years. Such work will be phased to ensu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aximum strategic intensity. In the first five years of this workplan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 intensive process of capacity building and strateg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lanning will take place in all high-burden countries. This will b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 phased process, focused on five countries per year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following strategic objectives have been identified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y 2008, at least 10 endemic countries will have develop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d will be implementing multisectoral, participatory ACS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itiatives and generating qualitative and quantitative dat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on ACSM's contribution to TB control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y 2010, at least 20 priority countries will be implemen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ultisectoral, participatory-based ACSM initiatives, 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onitoring and evaluating their outcom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y 2015, multisectoral, participatory ACSM methodolog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will be a fully developed component of the Stop T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trategy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y 2015, all priority countries will be implemen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ffective and participatory ACSM initiativ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 addition, a series of process targets have been identified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y the middle of 2006, a detailed ACSM capacity build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mplementation plan will have been developed aimed 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nsuring the appointment/recruitment of senior-level communic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trategists focused explicitly on tackling TB in al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high-burden countries. Such a plan will draw heavily on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xperience, expertise and insight of NTPs and partner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y the end of 2006, a strategy will have been developed wit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edium-burden countries detailing the communication suppor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necessary (including technical advice, resource materia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d other mechanisms) to meet TB targets in those countri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y the beginning of 2006, a process will have started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orm strategic agreements with international technic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upport organizations able to offer technical support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ountries. By the middle of 2006 at least five of these wil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have been agreed and implementation begu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se objectives and targets will be achieved through a mix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of five key strategic component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will have developed and implemented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CE906-1957-475B-92F1-6A655B836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154CF-CBD2-4204-B884-89B963520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304B6-42FC-45E5-81E2-4B5EA1D1B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28C84-83E7-41E0-A6FC-D15617255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CD83A-E95F-4822-869B-220633B30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792FC-0D04-43D9-8DF5-75222B911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42468-2A00-49B9-8A29-EC24C1EE6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2098F-885D-4FE1-A547-CBE122898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7A96C-A36F-4903-B250-D4C4CE54B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65B6C-54F3-46A6-8A37-CC83AD379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CBCF1-A31A-40A3-9F63-CBD4BA67A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ECC3C-416B-4938-802D-5F57AFB81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C0973-891F-470D-837A-388841E31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907CC-69EA-45C2-8568-55CB8FABE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024E0-84A5-4337-898D-A5C392BCE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C0BE4-DFFC-4C4A-BD3B-E9CDB3422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450B9-2C68-410D-945B-10397A0AF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AF6C0-C781-4172-B1DB-E37048CE8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ABDA8-23A7-419C-8AD4-C5D834E0E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1DE68-8BB6-4389-A539-6506D2AAB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DBA98-F3EB-4304-97B3-1D6AECE7F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E71FC-688C-4455-B812-B038B23DC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BFC4E-38E1-4DD1-8C79-EE767B9A1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89607-B421-4C5D-A5F1-FDA6F2D3E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31F51-FE73-4974-BA0A-C041950DC6D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50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1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4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BEC63-6AD3-4ED1-B26F-848B74D67BB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Advocacy, Communication and Social Mobilization Sub Group at Country Level: </a:t>
            </a:r>
            <a:br>
              <a:rPr sz="4000"/>
            </a:b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Building a Technical Assistance Network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332000" y="4436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Presentation to the Stop TB Coordinating Boar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Abuja 200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117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Funding for ACSM Technical Assistance Lagg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468360" y="2060640"/>
          <a:ext cx="822960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2060640"/>
                    <a:ext cx="822960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8" name=""/>
          <p:cNvSpPr/>
          <p:nvPr/>
        </p:nvSpPr>
        <p:spPr>
          <a:xfrm>
            <a:off x="5940360" y="4292640"/>
            <a:ext cx="2016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US$9 million gap in ASCM projected TA needs at country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867280" y="1844640"/>
            <a:ext cx="266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te:  USAID is the largest single donor for ACSM technical suppor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50920" y="566100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 mill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Rec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Challenge #1: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In the wake of solving the funding question, how to coordinate effectively among partners to maximise gains, reduce duplication, measure outcomes and advance ACSM pedagogy for TB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Challenge #2: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How to access necessary financial resources to maximise the impact of available funding from GFATM and other sources to satisfy the resources needs detailed in the Global Plan/ACSM Strategic Framework for technical cooperation among partners?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Previous discussions on T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2004—CB meeting Beijing:  Endorsement of ISAC to respond to shortage funding for 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B/HIV:  Requested funds for operational research and policy monitoring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2005—CB meeting Addis Ababa: Agreement to support countries with technical assistance to prepare 5</a:t>
            </a:r>
            <a:r>
              <a:rPr b="0" lang="en-GB" sz="2000" spc="-1" strike="noStrike" baseline="30000">
                <a:solidFill>
                  <a:srgbClr val="000000"/>
                </a:solidFill>
                <a:latin typeface="Tahoma"/>
              </a:rPr>
              <a:t>th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GFATM Proposa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2005—CB meeting Assisi:  Discussion of a Coalition for Technical Assistance  for Laborato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2006—Partners TA meeting Geneva: discussed the growing need for TA for all of technical iss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BCTA, ISAC and other channels provide needed TA but ACSM access to those funds is limite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Decision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Tahoma"/>
              </a:rPr>
              <a:t>Option A: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Would the CB endorse the creation of a comprehensive range TA mechanism or facility to support all technical elements of the Stop TB Strategy?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Tahoma"/>
              </a:rPr>
              <a:t>Option B: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Would the CB endorse the creation of a specific mechanism for responding to the growing demand for sound TA for ACSM?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B endorse the strengthening the capacity of the secretariat to respond to the growing demand for ACSM from countries.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CSM 10-year Strategic Framework for 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Utilization of AC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pos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Discussion and deci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Strategic Overview of ACS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2276640" y="2017800"/>
            <a:ext cx="1628640" cy="19857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2292480" y="4145040"/>
            <a:ext cx="1592280" cy="198756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141880" y="2017800"/>
            <a:ext cx="381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CSM is a new high priority technical component of the WHO Stop TB Strateg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oth the Global Plan and the ACSM 10 Year Strategic Framework call for the rapid scale-up of ACSM activities at country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$3.2 billion over the life of both plans.  $2.9 billion for countries and $133 million for international agency nee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The ACSM Strategic Framework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10 year strategic framework for 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Five point frame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apacity buil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Inclusion of patients and commun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Political commitment and account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National Partnershi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Sound practices and knowledge exch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5362560" y="2017800"/>
            <a:ext cx="33703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The Framework for Action will: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 u="sng">
                <a:solidFill>
                  <a:srgbClr val="000000"/>
                </a:solidFill>
                <a:uFillTx/>
                <a:latin typeface="Tahoma"/>
              </a:rPr>
              <a:t>Objectives</a:t>
            </a:r>
            <a:r>
              <a:rPr b="0" lang="en-GB" sz="2600" spc="-1" strike="noStrike" u="sng">
                <a:solidFill>
                  <a:srgbClr val="000000"/>
                </a:solidFill>
                <a:uFillTx/>
                <a:latin typeface="Tahom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Improve country and partner access to timely and quality-assured technical assistance.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Enable a collaborative approach to the delivery of technical assistance in support of country and partner-owned ACSM plans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Assist in the professional development of national institutions as well as national and regional ACSM professionals.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"/>
          <p:cNvSpPr/>
          <p:nvPr/>
        </p:nvSpPr>
        <p:spPr>
          <a:xfrm>
            <a:off x="2195640" y="6165720"/>
            <a:ext cx="511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Only if the Framework is fully funded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The targets a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2008 – 10 countrie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2010 – 20 count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2015 – ACSM methodologies will be fully a developed component of the Stop TB Strategy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2015 – all priority countries implementing effective ACSM Initiatives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"/>
          <p:cNvSpPr/>
          <p:nvPr/>
        </p:nvSpPr>
        <p:spPr>
          <a:xfrm>
            <a:off x="2268360" y="6237360"/>
            <a:ext cx="511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Only if the Framework is fully funded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Utilization:  Rapid growth in ACSM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468360" y="1628640"/>
          <a:ext cx="8217000" cy="451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628640"/>
                    <a:ext cx="8217000" cy="451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" name=""/>
          <p:cNvSpPr/>
          <p:nvPr/>
        </p:nvSpPr>
        <p:spPr>
          <a:xfrm>
            <a:off x="900000" y="5877000"/>
            <a:ext cx="7885080" cy="7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2002 data as gathered from ACSM  Needs Assessment Survey of HBC'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2006-2007 data gathered from HBC DOTS Expansion survey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*Planned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nding:  HBCs with GFATM funding via rounds 1-5 for ACSM activiti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1190520" y="2017800"/>
          <a:ext cx="7755120" cy="411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90520" y="2017800"/>
                    <a:ext cx="7755120" cy="411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"/>
          <p:cNvSpPr/>
          <p:nvPr/>
        </p:nvSpPr>
        <p:spPr>
          <a:xfrm>
            <a:off x="1187280" y="6093000"/>
            <a:ext cx="7561440" cy="9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002 data as gathered from ACSM  Needs Assessment Survey of HBC'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006-2007 data gathered from HBC DOTS Expansion survey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*Approved grants from 5</a:t>
            </a:r>
            <a:r>
              <a:rPr b="0" lang="en-GB" sz="1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round GFATM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Funds at Country Level via GFATM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716000" y="1915920"/>
            <a:ext cx="403884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Successful 5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ahoma"/>
              </a:rPr>
              <a:t>th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round for ACSM: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$35 million over two year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$63 million over five yea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(Some TA budgeted for in some 5th grant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468360" y="1989000"/>
          <a:ext cx="4038480" cy="4257720"/>
        </p:xfrm>
        <a:graphic>
          <a:graphicData uri="http://schemas.openxmlformats.org/drawingml/2006/table">
            <a:tbl>
              <a:tblPr/>
              <a:tblGrid>
                <a:gridCol w="2019240"/>
                <a:gridCol w="2019240"/>
              </a:tblGrid>
              <a:tr h="97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untry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CSM 2 year budgets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in million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anglades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8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R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dones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iger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Zimbabw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amb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razi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29T15:00:47Z</dcterms:created>
  <dc:creator>Thaddeus Pennas</dc:creator>
  <dc:description/>
  <dc:language>en-US</dc:language>
  <cp:lastModifiedBy>bakerl</cp:lastModifiedBy>
  <dcterms:modified xsi:type="dcterms:W3CDTF">2006-05-02T15:10:35Z</dcterms:modified>
  <cp:revision>19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216874898</vt:r8>
  </property>
  <property fmtid="{D5CDD505-2E9C-101B-9397-08002B2CF9AE}" pid="3" name="_AuthorEmail">
    <vt:lpwstr>francisc@who.int</vt:lpwstr>
  </property>
  <property fmtid="{D5CDD505-2E9C-101B-9397-08002B2CF9AE}" pid="4" name="_AuthorEmailDisplayName">
    <vt:lpwstr>Francis, Carole Louise</vt:lpwstr>
  </property>
  <property fmtid="{D5CDD505-2E9C-101B-9397-08002B2CF9AE}" pid="5" name="_EmailSubject">
    <vt:lpwstr>CB Presentation--Sub Group....Need your input</vt:lpwstr>
  </property>
  <property fmtid="{D5CDD505-2E9C-101B-9397-08002B2CF9AE}" pid="6" name="_NewReviewCycle">
    <vt:lpwstr/>
  </property>
  <property fmtid="{D5CDD505-2E9C-101B-9397-08002B2CF9AE}" pid="7" name="_PreviousAdHocReviewCycleID">
    <vt:r8>-1321205299</vt:r8>
  </property>
  <property fmtid="{D5CDD505-2E9C-101B-9397-08002B2CF9AE}" pid="8" name="_ReviewingToolsShownOnce">
    <vt:lpwstr/>
  </property>
</Properties>
</file>