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0F85-A313-485E-AF80-892488EA9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1A47-058D-4DE9-AD47-14670AB8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1B7E-CDDF-420F-A2D5-8883DAEE6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C3FE-E3A6-42F4-B403-FAE6F3E35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F428-0DCF-4141-8CD6-81107CE69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9A98-AC85-435C-ADBA-025FE9E7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26A7-7085-485C-ADF6-2FFCE083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316F-12B8-48FB-9DFD-F4C0AED6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9E66-7EC1-46A5-8420-55924CFA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3298-253F-41B7-A05B-8B134590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7B1F-6B4B-4446-A1FE-FECE43FB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D140-0275-4CC8-AB6E-46A53D11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18B7-A46C-4E65-8408-F7945AB7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A9DD-69BF-448E-8CE1-437C5752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2B87-509E-4ADD-9B5D-FBD2D3F8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F27A-FFE4-47E4-87C7-D1D98986A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3AF7-FED7-4AE7-BDF5-5FC8698B4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B5D9-DD0A-4226-8F4A-717EFFCD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68C8-66E1-48D4-A6EF-8FED1F64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793E-3D0A-472B-B2B2-5E9C13A9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1FEF-083D-4C76-A903-4B48E9F2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69B6-002A-4E74-95E9-A45CB055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CFFA-0B2A-4D31-9769-D7D7C08C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A0C5-309F-42A9-8C40-7E54DDC2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d2540"/>
                </a:gs>
                <a:gs pos="100000">
                  <a:srgbClr val="1d528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740520"/>
              <a:ext cx="5876640" cy="44640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465e"/>
                </a:gs>
                <a:gs pos="100000">
                  <a:srgbClr val="0099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0d2540"/>
              </a:gs>
              <a:gs pos="100000">
                <a:srgbClr val="1d52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D125-5DB1-4713-9DDA-C4CD1498F888}" type="slidenum"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52" name="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5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56" name="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3B2B-F0EE-45CE-97FD-7B6CC9E95BCE}" type="slidenum"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group on Laboratory Capacity Strengthening (SL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7080" y="4653000"/>
            <a:ext cx="770760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of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DOTS Expansion Working Group (DEWG)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549360"/>
            <a:ext cx="6629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Policy review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xpert consultation meeting on optimization of AFB microscopy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(Geneva, 1-2 Septem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Annual Laboratory Subgroup and SRLN meeting (4 meetings organized)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Organization of training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TB Laboratory Management Training  in collaboration with EMRO (Septem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xternal quality assurance (EQA) workshop in AFRO (Octo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595080"/>
            <a:ext cx="662940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jor activities for 2006-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89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Rapid implementation of the Strategic Approach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To address the needs of DOTS Expansion, MDR-TB and TB/HIV 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5 trainings for lab management, culture and DST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Support selected countries for evaluation, planning and capacity strengthening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20 assessment and monitoring missions in priority HBC (global and regional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Human resources</a:t>
            </a:r>
            <a:r>
              <a:rPr b="0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Increase the pool of lab experts at international, regional and national levels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3 workshops for consultants and national workshops in selected countries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Finalization of standardization and development of training material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Financial resour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Raise financial resources at the international level to support countries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15 million $US gap for critical needs 2006-2009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Increase allocation of financial resources for laboratory at country levels (GFATM…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Improve coordination among partners to optimize use of resour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est from the Stop TB Coordinating Bo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4756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Re-profiling the Sub-group into a Working Group for Laboratory Capacity Strengthening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The Chair of the newly established Working Group to be granted membership of the Stop TB Coordinating Board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Provide technical support to develop resource mobilization plan to raise funds (15 million $ US) for the implementation of the Laboratory Strengthening Strategic Approach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B diagnostic services form the foundation for TB contro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Laboratory has been traditionally a neglected component of TB contro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Laboratory activities are crosscutting issues for the three implementation working groups (DEWG, DOTS-Plus, TB/HIV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Prior to the establishment of SLCS, efforts to improve laboratory work were neither streamlined nor coordinated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63640" y="1857240"/>
            <a:ext cx="5761080" cy="103860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DOTS Expansion Working Group</a:t>
            </a:r>
            <a:br>
              <a:rPr sz="1800"/>
            </a:b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(DEWG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63640" y="4508640"/>
            <a:ext cx="5761080" cy="146556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Chair: at present- Prof. F. Portael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Secretariat: WHO-HQ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Members: SRL Network &amp; Partners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(The Union/CDC/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KNCV/GLRA/… others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63640" y="3141720"/>
            <a:ext cx="5761080" cy="103860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Sub-Group on Laboratory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Capacity Strengthening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32000" y="260280"/>
            <a:ext cx="781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  <a:ea typeface="바탕체"/>
              </a:rPr>
              <a:t>Establishment of the Subgroup on Laboratory Capacity Strengthening in 2002</a:t>
            </a:r>
            <a:endParaRPr b="0" lang="en-US" sz="25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2924280"/>
            <a:ext cx="0" cy="21744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4221000"/>
            <a:ext cx="0" cy="28908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ituation analysis (22 HB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Most of HBCs have an established TB laboratory network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8 countries report to have National Reference Laboratory to oversee the organization and performance of the network; however some of them are weak and not fully functional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8 HBCs report to have EQA scheme for smear microscopy; however, majority report it's limited coverage and suboptimal quality of implementation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4 countries perform culture at the national/regional level according to nationally-defined specifications, which are not always consistent with international recommendations. In addition, there is no quality control of culture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In general, major impediments to perform diagnostic tests (especially culture and DST) are inadequate equipment and infrastructure, lack of technical knowledge, shortage of human and financial resource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774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Strategic Approach to Strengthen Laboratory Services for Tuberculosis Control  (2006-2009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47560"/>
            <a:ext cx="843588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3053"/>
                </a:solidFill>
                <a:latin typeface="Arial"/>
                <a:ea typeface="굴림"/>
              </a:rPr>
              <a:t>Objectives of the Strategic Approach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support countries to improve the performance of TB laboratories</a:t>
            </a:r>
            <a:r>
              <a:rPr b="1" lang="en-GB" sz="2000" spc="-1" strike="noStrike">
                <a:solidFill>
                  <a:srgbClr val="bfa907"/>
                </a:solidFill>
                <a:latin typeface="Arial"/>
                <a:ea typeface="굴림"/>
              </a:rPr>
              <a:t> </a:t>
            </a: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achieve the following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Implement a well-functioning QA programme for AFB smear microscopy in 100% of microscopy centres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Ensure access to culture and DST services for at least 40% of the eligible population (this will be determined according to national policy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promote a fully functional laboratory network with common objectives, programming, supervision and evaluation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02920" y="274680"/>
            <a:ext cx="7489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Components of the Strategic Approach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09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Standardization of laboratory document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Assessment tool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Training material 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Technical guidelines and manual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3" marL="175248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Assessment of laboratory servi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Evaluation of TB smear microscopy network (structure, HR and performance)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Evaluation of the reference laboratory capacity and performance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dentify key elements to improve lab performance and increase capacity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3" marL="1752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Supporting countries in planning, training and identification of funding to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mplement QA system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Strengthen the capacity of laboratory network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Organize the TB laboratory network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mprove quality and increase quantity of human resource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7143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mponents of the Strategic Approa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Monitoring and evaluation of progres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Upgrade laboratories capacity by technology transfer and introduction of new tool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Increase number of international consultants to support countrie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Increase and sustain financial resources to support countrie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Strengthen partnership and advocacy 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41672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Development of technical documents and guidelin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Finalization of the Laboratory Strategic Approach to improve performance of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TB diagnostic services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Checklist to evaluate culture and DST technique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Januar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Revision of TB Laboratory Management Training curriculum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ugust 2005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QA system for culture and DST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Februar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Framework for revision of the TB laboratory guidelines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Uniform training curricula for AFB smear microscopy (workshop in the box)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Ma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Standard operating procedures guidelines (SOP)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Jul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Compendium of performance indicators for TB laboratory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September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7596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1474920"/>
            <a:ext cx="86421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Organization/participation in assessment missions and programmes review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Approximately 40 assessment missions since 2002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However, not all partner organizations have coordinated their missions with secretariat of sub-group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3" marL="1681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3" marL="1681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Establishment of regional task force for laboratory improvement and development of regional strategi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URO (January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WPRO (January 2006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MRO (March 2006)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SEARO (July 2006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20:15:23Z</dcterms:created>
  <dc:creator>test</dc:creator>
  <dc:description/>
  <cp:keywords/>
  <dc:language>en-US</dc:language>
  <cp:lastModifiedBy>BlancL</cp:lastModifiedBy>
  <dcterms:modified xsi:type="dcterms:W3CDTF">2006-04-24T11:38:42Z</dcterms:modified>
  <cp:revision>164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  <property fmtid="{D5CDD505-2E9C-101B-9397-08002B2CF9AE}" pid="3" name="_TemplateID">
    <vt:lpwstr>TC011812271033</vt:lpwstr>
  </property>
</Properties>
</file>