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5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.png" ContentType="image/png"/>
  <Override PartName="/ppt/media/image2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41.jpeg" ContentType="image/jpeg"/>
  <Override PartName="/ppt/media/image54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50.png" ContentType="image/png"/>
  <Override PartName="/ppt/media/image37.wmf" ContentType="image/x-wmf"/>
  <Override PartName="/ppt/media/image16.wmf" ContentType="image/x-wmf"/>
  <Override PartName="/ppt/media/image55.png" ContentType="image/png"/>
  <Override PartName="/ppt/media/image38.wmf" ContentType="image/x-wmf"/>
  <Override PartName="/ppt/media/image40.png" ContentType="image/png"/>
  <Override PartName="/ppt/media/image42.jpeg" ContentType="image/jpeg"/>
  <Override PartName="/ppt/media/image34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7.wmf" ContentType="image/x-wmf"/>
  <Override PartName="/ppt/media/image12.wmf" ContentType="image/x-wmf"/>
  <Override PartName="/ppt/media/image4.png" ContentType="image/png"/>
  <Override PartName="/ppt/media/image48.jpeg" ContentType="image/jpeg"/>
  <Override PartName="/ppt/media/image49.png" ContentType="image/png"/>
  <Override PartName="/ppt/media/image52.wmf" ContentType="image/x-wmf"/>
  <Override PartName="/ppt/media/image53.wmf" ContentType="image/x-wmf"/>
  <Override PartName="/ppt/media/image8.png" ContentType="image/png"/>
  <Override PartName="/ppt/media/image36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9.png" ContentType="image/png"/>
  <Override PartName="/ppt/media/image9.png" ContentType="image/png"/>
  <Override PartName="/ppt/media/image1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BE42C17-0B36-420F-B8EC-06ABF4F3750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3B14DD0-52B2-4C72-A678-2ED62D5BBD5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9B790F8-6C87-400C-80FD-8A306986726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CAC4D37-EB4E-479A-9EFF-B74A9A9BEDB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-1440" y="883116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-1440" y="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120" y="4414320"/>
            <a:ext cx="514188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BC81FCE-48DC-447A-81BE-5AAE87C26E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EFD8571-318D-48D4-8B30-A1B3EF5F5BA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FCBAC7A-7E2B-4465-86F7-DAE96B850A8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0FBBF51-7CF4-437A-BE31-FE468382924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255C0CD-1F77-4C56-89B4-A293852CBCF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F276-A4B8-425D-BA68-4B3125D6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1ADE-3EC1-4078-A04E-0AC153B7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D94-7F56-45F4-8851-DCC35E45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AB6-E887-469C-9F1C-D690B54B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BD18-30D0-4943-BD6F-2FE15C63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D5F7-B092-4D64-9691-27B8FB20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F23D-EFC4-438D-8573-996D15EC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2912-361A-4B94-8364-62B17D9F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B79B-837B-473F-A9B3-7E6CBDF1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76F8-64ED-4123-84E8-26C300F6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91B1-BF11-4898-8B13-9A5449B7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16B3-3B79-4705-8AFE-5F65AB0E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0883-67D5-4968-969E-0A1C18C8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D17C-EED2-4A81-962E-58663938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55D9-0BE3-4990-A403-30B91AC2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BFB9-C064-4D64-BB4E-B7E2960D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7F62-4429-49CF-B682-A0787A7E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4323C-C361-420B-9D68-ADAE4FB6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F0A45-9156-4C21-B4A7-B8E6E7F0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8197F-72C4-4438-A137-329871D4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847E3-2427-4A61-913C-A988EFCC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49016-BBF0-49DE-8306-2D330225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0B69-41C7-469C-BE02-C50400FF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DA3C8-41C2-4AF1-8BF3-DD115EF9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43540-640C-4946-8999-18FDDC09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4468A-732A-4C53-9C29-66D4FF0A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A54E6-DF55-4906-92FB-689535A1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3A7D4-802C-43FA-93F1-4DB32523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17E16-50DB-4F87-A489-2AA45335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97A31-1CE4-4393-B0BB-86E3A0CA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A66-7F93-4A29-B710-7997C5FB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38A-A1A3-4B8C-A0F1-BA721956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665-8A3C-45E3-A0F0-61159F4B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A454-4BAA-4BAB-9541-05BAD788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D5D-3E80-4740-8174-7514FBEE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A626-7493-41BE-8287-16C38EDB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2FEC-F434-4F0F-BE83-593A241952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262D-6FE7-4A45-A3EF-50CA8E937C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83AF-6C19-4657-A327-C52FA6819D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5.wmf"/><Relationship Id="rId14" Type="http://schemas.openxmlformats.org/officeDocument/2006/relationships/image" Target="../media/image36.wmf"/><Relationship Id="rId15" Type="http://schemas.openxmlformats.org/officeDocument/2006/relationships/image" Target="../media/image37.wmf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wmf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1E34-D8E7-4323-A492-26F56B72F4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™ MGIT™ 960 culture positive, AFB smear, and ident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BBC0-804D-4FC5-B410-B929B8EC2D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5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ification of positives on LCD displ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577800" y="2119320"/>
            <a:ext cx="8042400" cy="4302000"/>
            <a:chOff x="577800" y="2119320"/>
            <a:chExt cx="8042400" cy="4302000"/>
          </a:xfrm>
        </p:grpSpPr>
        <p:grpSp>
          <p:nvGrpSpPr>
            <p:cNvPr id="345" name="Group 4"/>
            <p:cNvGrpSpPr/>
            <p:nvPr/>
          </p:nvGrpSpPr>
          <p:grpSpPr>
            <a:xfrm>
              <a:off x="584280" y="5784840"/>
              <a:ext cx="8032680" cy="636480"/>
              <a:chOff x="584280" y="5784840"/>
              <a:chExt cx="8032680" cy="636480"/>
            </a:xfrm>
          </p:grpSpPr>
          <p:sp>
            <p:nvSpPr>
              <p:cNvPr id="346" name="AutoShape 5"/>
              <p:cNvSpPr/>
              <p:nvPr/>
            </p:nvSpPr>
            <p:spPr>
              <a:xfrm>
                <a:off x="165096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6"/>
              <p:cNvSpPr/>
              <p:nvPr/>
            </p:nvSpPr>
            <p:spPr>
              <a:xfrm>
                <a:off x="2676600" y="5784840"/>
                <a:ext cx="81576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7"/>
              <p:cNvSpPr/>
              <p:nvPr/>
            </p:nvSpPr>
            <p:spPr>
              <a:xfrm>
                <a:off x="3711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8"/>
              <p:cNvSpPr/>
              <p:nvPr/>
            </p:nvSpPr>
            <p:spPr>
              <a:xfrm>
                <a:off x="4746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9"/>
              <p:cNvSpPr/>
              <p:nvPr/>
            </p:nvSpPr>
            <p:spPr>
              <a:xfrm>
                <a:off x="5778360" y="5784840"/>
                <a:ext cx="8161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10"/>
              <p:cNvSpPr/>
              <p:nvPr/>
            </p:nvSpPr>
            <p:spPr>
              <a:xfrm>
                <a:off x="681192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11"/>
              <p:cNvSpPr/>
              <p:nvPr/>
            </p:nvSpPr>
            <p:spPr>
              <a:xfrm>
                <a:off x="58428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12"/>
              <p:cNvSpPr/>
              <p:nvPr/>
            </p:nvSpPr>
            <p:spPr>
              <a:xfrm>
                <a:off x="780264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3"/>
            <p:cNvGrpSpPr/>
            <p:nvPr/>
          </p:nvGrpSpPr>
          <p:grpSpPr>
            <a:xfrm>
              <a:off x="577800" y="2119320"/>
              <a:ext cx="8042400" cy="3560760"/>
              <a:chOff x="577800" y="2119320"/>
              <a:chExt cx="8042400" cy="3560760"/>
            </a:xfrm>
          </p:grpSpPr>
          <p:grpSp>
            <p:nvGrpSpPr>
              <p:cNvPr id="355" name="Group 14"/>
              <p:cNvGrpSpPr/>
              <p:nvPr/>
            </p:nvGrpSpPr>
            <p:grpSpPr>
              <a:xfrm>
                <a:off x="577800" y="2119320"/>
                <a:ext cx="8042400" cy="3560760"/>
                <a:chOff x="577800" y="2119320"/>
                <a:chExt cx="8042400" cy="3560760"/>
              </a:xfrm>
            </p:grpSpPr>
            <p:grpSp>
              <p:nvGrpSpPr>
                <p:cNvPr id="356" name="Group 15"/>
                <p:cNvGrpSpPr/>
                <p:nvPr/>
              </p:nvGrpSpPr>
              <p:grpSpPr>
                <a:xfrm>
                  <a:off x="577800" y="2133360"/>
                  <a:ext cx="8042400" cy="3546720"/>
                  <a:chOff x="577800" y="2133360"/>
                  <a:chExt cx="8042400" cy="3546720"/>
                </a:xfrm>
              </p:grpSpPr>
              <p:sp>
                <p:nvSpPr>
                  <p:cNvPr id="357" name="Rectangle 16"/>
                  <p:cNvSpPr/>
                  <p:nvPr/>
                </p:nvSpPr>
                <p:spPr>
                  <a:xfrm>
                    <a:off x="582480" y="2133360"/>
                    <a:ext cx="8037720" cy="3519720"/>
                  </a:xfrm>
                  <a:prstGeom prst="rect">
                    <a:avLst/>
                  </a:prstGeom>
                  <a:solidFill>
                    <a:srgbClr val="8cf4ea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8" name="Group 17"/>
                  <p:cNvGrpSpPr/>
                  <p:nvPr/>
                </p:nvGrpSpPr>
                <p:grpSpPr>
                  <a:xfrm>
                    <a:off x="577800" y="4668840"/>
                    <a:ext cx="5130720" cy="1011240"/>
                    <a:chOff x="577800" y="4668840"/>
                    <a:chExt cx="5130720" cy="1011240"/>
                  </a:xfrm>
                </p:grpSpPr>
                <p:sp>
                  <p:nvSpPr>
                    <p:cNvPr id="359" name="Rectangle 18"/>
                    <p:cNvSpPr/>
                    <p:nvPr/>
                  </p:nvSpPr>
                  <p:spPr>
                    <a:xfrm>
                      <a:off x="577800" y="4674960"/>
                      <a:ext cx="5130720" cy="9828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9"/>
                    <p:cNvSpPr/>
                    <p:nvPr/>
                  </p:nvSpPr>
                  <p:spPr>
                    <a:xfrm>
                      <a:off x="1542960" y="466884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0"/>
                    <p:cNvSpPr/>
                    <p:nvPr/>
                  </p:nvSpPr>
                  <p:spPr>
                    <a:xfrm>
                      <a:off x="26305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1"/>
                    <p:cNvSpPr/>
                    <p:nvPr/>
                  </p:nvSpPr>
                  <p:spPr>
                    <a:xfrm>
                      <a:off x="36529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"/>
                    <p:cNvSpPr/>
                    <p:nvPr/>
                  </p:nvSpPr>
                  <p:spPr>
                    <a:xfrm>
                      <a:off x="4740120" y="4694040"/>
                      <a:ext cx="0" cy="986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4" name="Line 23"/>
                <p:cNvSpPr/>
                <p:nvPr/>
              </p:nvSpPr>
              <p:spPr>
                <a:xfrm>
                  <a:off x="625320" y="3830400"/>
                  <a:ext cx="798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4"/>
                <p:cNvSpPr/>
                <p:nvPr/>
              </p:nvSpPr>
              <p:spPr>
                <a:xfrm>
                  <a:off x="3733920" y="2138040"/>
                  <a:ext cx="0" cy="16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6" name="Group 25"/>
                <p:cNvGrpSpPr/>
                <p:nvPr/>
              </p:nvGrpSpPr>
              <p:grpSpPr>
                <a:xfrm>
                  <a:off x="631800" y="2138040"/>
                  <a:ext cx="2496600" cy="1584360"/>
                  <a:chOff x="631800" y="2138040"/>
                  <a:chExt cx="2496600" cy="1584360"/>
                </a:xfrm>
              </p:grpSpPr>
              <p:sp>
                <p:nvSpPr>
                  <p:cNvPr id="367" name="Rectangle 26"/>
                  <p:cNvSpPr/>
                  <p:nvPr/>
                </p:nvSpPr>
                <p:spPr>
                  <a:xfrm>
                    <a:off x="631800" y="2138040"/>
                    <a:ext cx="523440" cy="45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#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8" name="Group 27"/>
                  <p:cNvGrpSpPr/>
                  <p:nvPr/>
                </p:nvGrpSpPr>
                <p:grpSpPr>
                  <a:xfrm>
                    <a:off x="1379520" y="2230200"/>
                    <a:ext cx="563760" cy="1492200"/>
                    <a:chOff x="1379520" y="2230200"/>
                    <a:chExt cx="563760" cy="1492200"/>
                  </a:xfrm>
                </p:grpSpPr>
                <p:pic>
                  <p:nvPicPr>
                    <p:cNvPr id="369" name="Picture 28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504800" y="2230200"/>
                      <a:ext cx="3114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0" name="Picture 2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2603520"/>
                      <a:ext cx="29844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1" name="Picture 3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3035160"/>
                      <a:ext cx="27324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2" name="Picture 3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9520" y="3441600"/>
                      <a:ext cx="5637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73" name="Group 32"/>
                  <p:cNvGrpSpPr/>
                  <p:nvPr/>
                </p:nvGrpSpPr>
                <p:grpSpPr>
                  <a:xfrm>
                    <a:off x="2055960" y="2206440"/>
                    <a:ext cx="1072440" cy="1175040"/>
                    <a:chOff x="2055960" y="2206440"/>
                    <a:chExt cx="1072440" cy="1175040"/>
                  </a:xfrm>
                </p:grpSpPr>
                <p:sp>
                  <p:nvSpPr>
                    <p:cNvPr id="374" name="Rectangle 33"/>
                    <p:cNvSpPr/>
                    <p:nvPr/>
                  </p:nvSpPr>
                  <p:spPr>
                    <a:xfrm>
                      <a:off x="2056320" y="2206440"/>
                      <a:ext cx="10720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19/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Rectangle 34"/>
                    <p:cNvSpPr/>
                    <p:nvPr/>
                  </p:nvSpPr>
                  <p:spPr>
                    <a:xfrm>
                      <a:off x="2056320" y="2633400"/>
                      <a:ext cx="7549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: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Rectangle 35"/>
                    <p:cNvSpPr/>
                    <p:nvPr/>
                  </p:nvSpPr>
                  <p:spPr>
                    <a:xfrm>
                      <a:off x="2055960" y="3014640"/>
                      <a:ext cx="10126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2 °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7" name="Group 36"/>
                <p:cNvGrpSpPr/>
                <p:nvPr/>
              </p:nvGrpSpPr>
              <p:grpSpPr>
                <a:xfrm>
                  <a:off x="3992760" y="2253960"/>
                  <a:ext cx="872280" cy="1423440"/>
                  <a:chOff x="3992760" y="2253960"/>
                  <a:chExt cx="872280" cy="1423440"/>
                </a:xfrm>
              </p:grpSpPr>
              <p:pic>
                <p:nvPicPr>
                  <p:cNvPr id="378" name="Picture 3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05160" y="2253960"/>
                    <a:ext cx="509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" name="Rectangle 38"/>
                  <p:cNvSpPr/>
                  <p:nvPr/>
                </p:nvSpPr>
                <p:spPr>
                  <a:xfrm>
                    <a:off x="3992760" y="3341520"/>
                    <a:ext cx="87228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 / D1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39"/>
                <p:cNvGrpSpPr/>
                <p:nvPr/>
              </p:nvGrpSpPr>
              <p:grpSpPr>
                <a:xfrm>
                  <a:off x="5159520" y="2119320"/>
                  <a:ext cx="3454920" cy="1764360"/>
                  <a:chOff x="5159520" y="2119320"/>
                  <a:chExt cx="3454920" cy="1764360"/>
                </a:xfrm>
              </p:grpSpPr>
              <p:grpSp>
                <p:nvGrpSpPr>
                  <p:cNvPr id="381" name="Group 40"/>
                  <p:cNvGrpSpPr/>
                  <p:nvPr/>
                </p:nvGrpSpPr>
                <p:grpSpPr>
                  <a:xfrm>
                    <a:off x="6087600" y="2327040"/>
                    <a:ext cx="2526840" cy="1556640"/>
                    <a:chOff x="6087600" y="2327040"/>
                    <a:chExt cx="2526840" cy="1556640"/>
                  </a:xfrm>
                </p:grpSpPr>
                <p:sp>
                  <p:nvSpPr>
                    <p:cNvPr id="382" name="Rectangle 41"/>
                    <p:cNvSpPr/>
                    <p:nvPr/>
                  </p:nvSpPr>
                  <p:spPr>
                    <a:xfrm>
                      <a:off x="6087600" y="23270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Rectangle 42"/>
                    <p:cNvSpPr/>
                    <p:nvPr/>
                  </p:nvSpPr>
                  <p:spPr>
                    <a:xfrm>
                      <a:off x="6087600" y="254772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Rectangle 43"/>
                    <p:cNvSpPr/>
                    <p:nvPr/>
                  </p:nvSpPr>
                  <p:spPr>
                    <a:xfrm>
                      <a:off x="6087600" y="27460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Rectangle 44"/>
                    <p:cNvSpPr/>
                    <p:nvPr/>
                  </p:nvSpPr>
                  <p:spPr>
                    <a:xfrm>
                      <a:off x="6087600" y="29368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Rectangle 45"/>
                    <p:cNvSpPr/>
                    <p:nvPr/>
                  </p:nvSpPr>
                  <p:spPr>
                    <a:xfrm>
                      <a:off x="6087600" y="31352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Rectangle 46"/>
                    <p:cNvSpPr/>
                    <p:nvPr/>
                  </p:nvSpPr>
                  <p:spPr>
                    <a:xfrm>
                      <a:off x="6087600" y="333216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Rectangle 47"/>
                    <p:cNvSpPr/>
                    <p:nvPr/>
                  </p:nvSpPr>
                  <p:spPr>
                    <a:xfrm>
                      <a:off x="6087600" y="3547800"/>
                      <a:ext cx="252684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Line 48"/>
                  <p:cNvSpPr/>
                  <p:nvPr/>
                </p:nvSpPr>
                <p:spPr>
                  <a:xfrm>
                    <a:off x="5159520" y="2130120"/>
                    <a:ext cx="0" cy="1694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0" name="Group 49"/>
                  <p:cNvGrpSpPr/>
                  <p:nvPr/>
                </p:nvGrpSpPr>
                <p:grpSpPr>
                  <a:xfrm>
                    <a:off x="6087960" y="2119320"/>
                    <a:ext cx="2239920" cy="263520"/>
                    <a:chOff x="6087960" y="2119320"/>
                    <a:chExt cx="2239920" cy="263520"/>
                  </a:xfrm>
                </p:grpSpPr>
                <p:pic>
                  <p:nvPicPr>
                    <p:cNvPr id="391" name="Picture 5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87960" y="2127240"/>
                      <a:ext cx="25236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2" name="Picture 5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94520" y="2122200"/>
                      <a:ext cx="260280" cy="2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3" name="Picture 5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7320" y="2119320"/>
                      <a:ext cx="25056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94" name="Group 53"/>
                  <p:cNvGrpSpPr/>
                  <p:nvPr/>
                </p:nvGrpSpPr>
                <p:grpSpPr>
                  <a:xfrm>
                    <a:off x="5391000" y="2360520"/>
                    <a:ext cx="203400" cy="1446120"/>
                    <a:chOff x="5391000" y="2360520"/>
                    <a:chExt cx="203400" cy="1446120"/>
                  </a:xfrm>
                </p:grpSpPr>
                <p:pic>
                  <p:nvPicPr>
                    <p:cNvPr id="395" name="Picture 5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91000" y="2360520"/>
                      <a:ext cx="20340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6" name="Picture 5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94240" y="2595240"/>
                      <a:ext cx="196920" cy="19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Picture 5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05400" y="2823840"/>
                      <a:ext cx="17640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Picture 5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02160" y="341928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9" name="Picture 5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400720" y="3620880"/>
                      <a:ext cx="185760" cy="1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0" name="Picture 5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02160" y="321300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1" name="Picture 6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413320" y="3020760"/>
                      <a:ext cx="160560" cy="16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pic>
            <p:nvPicPr>
              <p:cNvPr id="402" name="Picture 61" descr=""/>
              <p:cNvPicPr/>
              <p:nvPr/>
            </p:nvPicPr>
            <p:blipFill>
              <a:blip r:embed="rId16"/>
              <a:stretch/>
            </p:blipFill>
            <p:spPr>
              <a:xfrm>
                <a:off x="1812960" y="4755960"/>
                <a:ext cx="442800" cy="80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3" name="Line 62"/>
          <p:cNvSpPr/>
          <p:nvPr/>
        </p:nvSpPr>
        <p:spPr>
          <a:xfrm>
            <a:off x="190440" y="2451240"/>
            <a:ext cx="5135760" cy="1260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3"/>
          <p:cNvSpPr/>
          <p:nvPr/>
        </p:nvSpPr>
        <p:spPr>
          <a:xfrm>
            <a:off x="209520" y="2470320"/>
            <a:ext cx="1752480" cy="224784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4"/>
          <p:cNvSpPr/>
          <p:nvPr/>
        </p:nvSpPr>
        <p:spPr>
          <a:xfrm>
            <a:off x="142920" y="1835280"/>
            <a:ext cx="8823240" cy="4846680"/>
          </a:xfrm>
          <a:prstGeom prst="rect">
            <a:avLst/>
          </a:prstGeom>
          <a:noFill/>
          <a:ln w="5724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282F-72AB-4B02-AC30-C3014261F2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trument positive cultu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2800" y="1600200"/>
            <a:ext cx="6486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drawer on which the positive indicator light is illu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the “remove positive tubes” sof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station LEDs will light (g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the tube from the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the bar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ly check tube for flaky, clumpe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until instrument beeps 3 times signaling all positives have been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rcRect l="46566" t="0" r="0" b="0"/>
          <a:stretch/>
        </p:blipFill>
        <p:spPr>
          <a:xfrm>
            <a:off x="7145280" y="3971880"/>
            <a:ext cx="784440" cy="244800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6972480" y="1469880"/>
            <a:ext cx="1328400" cy="221616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pic>
        <p:nvPicPr>
          <p:cNvPr id="411" name="Picture 9" descr="remove positives.jpg"/>
          <p:cNvPicPr/>
          <p:nvPr/>
        </p:nvPicPr>
        <p:blipFill>
          <a:blip r:embed="rId3"/>
          <a:stretch/>
        </p:blipFill>
        <p:spPr>
          <a:xfrm>
            <a:off x="6167520" y="17082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t 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471600" y="1642680"/>
            <a:ext cx="7948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status screen, press the “print reports” sof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soft key that corresponds to the “Unloaded Positive Tub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ll tubes listed on the report correspond to the tube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ate positive on the MGIT tube with permanent  ma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CB2E-8A10-42F6-83EF-BF0A2456F6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printer.jpg"/>
          <p:cNvPicPr/>
          <p:nvPr/>
        </p:nvPicPr>
        <p:blipFill>
          <a:blip r:embed="rId1"/>
          <a:stretch/>
        </p:blipFill>
        <p:spPr>
          <a:xfrm>
            <a:off x="4946760" y="2143080"/>
            <a:ext cx="593640" cy="48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remove positives.jpg"/>
          <p:cNvPicPr/>
          <p:nvPr/>
        </p:nvPicPr>
        <p:blipFill>
          <a:blip r:embed="rId2"/>
          <a:stretch/>
        </p:blipFill>
        <p:spPr>
          <a:xfrm>
            <a:off x="6167520" y="31338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DD66-CCB3-4B76-9701-4A9CDF5C8D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49AE-7937-4A12-A3F9-AF3073A7F3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" y="1562040"/>
            <a:ext cx="7967520" cy="3867120"/>
          </a:xfrm>
          <a:prstGeom prst="rect">
            <a:avLst/>
          </a:prstGeom>
          <a:ln w="0">
            <a:noFill/>
          </a:ln>
        </p:spPr>
      </p:pic>
      <p:sp>
        <p:nvSpPr>
          <p:cNvPr id="423" name="Oval 4"/>
          <p:cNvSpPr/>
          <p:nvPr/>
        </p:nvSpPr>
        <p:spPr>
          <a:xfrm rot="1279800">
            <a:off x="4971960" y="3971520"/>
            <a:ext cx="600120" cy="1085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1143000" y="5200560"/>
            <a:ext cx="72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detection (TTD) must be ≥ 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TD is less than 4 days, it is likely to be contaminated or an N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8FDD-11F2-4F62-8119-CEEDC6A3BB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4"/>
          <p:cNvSpPr/>
          <p:nvPr/>
        </p:nvSpPr>
        <p:spPr>
          <a:xfrm>
            <a:off x="771480" y="5257800"/>
            <a:ext cx="73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GIT culture must be 1 - 5 days old to be used as a seed for DST inoculation. The day it is determined to be positive by the instrument is day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5600880" y="3971880"/>
            <a:ext cx="942840" cy="857160"/>
          </a:xfrm>
          <a:prstGeom prst="rect">
            <a:avLst/>
          </a:pr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1771560" y="2828880"/>
            <a:ext cx="1614600" cy="87156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ication of specime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41000" y="1419120"/>
            <a:ext cx="80931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ed reports list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link MGIT tube barcode with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boratory specime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ube with an additional barcode specifying  the laboratory specimen number (if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ment can read a second bar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arcode number on printed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pecimen barcode label, specimen number must be linked with 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written on report next to the tube barco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6329-B1EB-4DA7-A7AD-0A2C57F4B7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2127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F2F8-AEBF-43C1-8F70-0D73F5FA2A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48888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"/>
          <p:cNvSpPr/>
          <p:nvPr/>
        </p:nvSpPr>
        <p:spPr>
          <a:xfrm>
            <a:off x="771480" y="5257800"/>
            <a:ext cx="73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on number is laboratory specime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umber is tube barcod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1397160" y="3973680"/>
            <a:ext cx="1614240" cy="87120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positive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smear of the positive MGIT 960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 new clean glass slide with specimen ID #, source (MGIT) and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a BSC, in an isolation room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high concentra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F230-48D8-4A06-912F-E469593963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smear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95080" y="1585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hake or invert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 very small amount of broth from the bottom of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ine tip sterile transfer pip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one drop on the slide and spread it in a 1 x 2 cm 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to dry INSIDE the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drop of fixative to help adhere the positive MGIT broth to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ative is usually based on bovine or rabbit se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9717-0A67-48EF-A4B7-9093B052BF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E536-FDB7-496C-B653-115345DF18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BD MGIT 960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positive cultures from the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ing MGIT 960 unloaded positiv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and reading ZN AFB sm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1280" y="466200"/>
            <a:ext cx="74581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fix and stain with Ziehl –Neelsen re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728640" y="1471680"/>
            <a:ext cx="7029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-fix the smear using a hot plate (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˚C for 2 hours or with a flame (pass through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l fuchsin - heated to steaming -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% Acid alcohol -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ylene blue - 1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AC4C-C0A8-42A3-A106-212B046FBD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1"/>
          <a:stretch/>
        </p:blipFill>
        <p:spPr>
          <a:xfrm>
            <a:off x="5551560" y="3875040"/>
            <a:ext cx="2792520" cy="210348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515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ing AFB smear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714840" y="1399680"/>
            <a:ext cx="46576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 the stained smears with a bright field microscope using the 100x oil objective for the presence of acid-fast bacilli (AFB) in a methodical manner to ensure that an area is scanned only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ning a series of three parallel sweeps the length of the smear, or by scanning a series of nine parallel sweeps the width of the sm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ears scanned in this manner will give about 60 to 100 consecutive fields in one sweep with a 100x objec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ing for red bacilli, possible serpentine cords, on a blue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6B2D-F467-4ED4-B873-5B4B4450F0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Object 2"/>
          <p:cNvGraphicFramePr/>
          <p:nvPr/>
        </p:nvGraphicFramePr>
        <p:xfrm>
          <a:off x="-299880" y="4957920"/>
          <a:ext cx="419256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9880" y="4957920"/>
                    <a:ext cx="41925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4" name="Group 20"/>
          <p:cNvGrpSpPr/>
          <p:nvPr/>
        </p:nvGrpSpPr>
        <p:grpSpPr>
          <a:xfrm>
            <a:off x="1028880" y="1463760"/>
            <a:ext cx="2342520" cy="3436560"/>
            <a:chOff x="1028880" y="1463760"/>
            <a:chExt cx="2342520" cy="3436560"/>
          </a:xfrm>
        </p:grpSpPr>
        <p:pic>
          <p:nvPicPr>
            <p:cNvPr id="455" name="Picture 7" descr="P1010002"/>
            <p:cNvPicPr/>
            <p:nvPr/>
          </p:nvPicPr>
          <p:blipFill>
            <a:blip r:embed="rId3"/>
            <a:stretch/>
          </p:blipFill>
          <p:spPr>
            <a:xfrm>
              <a:off x="1083960" y="1463760"/>
              <a:ext cx="1841400" cy="1239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6" name="Picture 11" descr=""/>
            <p:cNvPicPr/>
            <p:nvPr/>
          </p:nvPicPr>
          <p:blipFill>
            <a:blip r:embed="rId4"/>
            <a:stretch/>
          </p:blipFill>
          <p:spPr>
            <a:xfrm>
              <a:off x="1028880" y="3632760"/>
              <a:ext cx="2175840" cy="1267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7" name="Picture 15" descr="Mycobacterium_kansasii_Ziehl"/>
            <p:cNvPicPr/>
            <p:nvPr/>
          </p:nvPicPr>
          <p:blipFill>
            <a:blip r:embed="rId5"/>
            <a:stretch/>
          </p:blipFill>
          <p:spPr>
            <a:xfrm>
              <a:off x="1307880" y="2595960"/>
              <a:ext cx="2063520" cy="1162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FB + smear with serpentine cording is NOT a definitive identification system for repor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ver 100 species of mycobacteria that are all AFB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kansas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exhibits serpentine 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B9BA-D2CC-43BA-BE2F-5B5D48B164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ographic lateral flow immuno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lia, SD Bioline, or MT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Probe Ass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 or MTBDR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Xpert MTB/R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F40F-9E51-458C-B018-C4918D69AD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75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gen detection using chromatographic immunoass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Unlike HIV rapid tests, this test must be inoculated, read and discarded inside a BSC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µ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spension of growth from liquid or solid medium is added to the specimen well and, if belonging to the TB complex, will react with the Ab to MPB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is read aft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7" descr=""/>
          <p:cNvPicPr/>
          <p:nvPr/>
        </p:nvPicPr>
        <p:blipFill>
          <a:blip r:embed="rId1"/>
          <a:srcRect l="27074" t="15539" r="32991" b="60831"/>
          <a:stretch/>
        </p:blipFill>
        <p:spPr>
          <a:xfrm>
            <a:off x="1547640" y="4437000"/>
            <a:ext cx="590580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 proced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test in a BSC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test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ense 100 µl of the well-mixed MGIT culture with a transfer pipette on the specimen placing area of the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reading area of the cartridge after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est results must be interpreted no later than 60 minutes after inoculation of the test cartridge due to the inoculum drying, which may alt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4156-77F5-4B24-9688-0DFD631257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ality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each day test is performed and documented on lo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MTBC isolate or a reference strain growing in liqu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strain or reference strain of non-tuberculous mycobacteria (NT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, M. fortuitum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tc. growing in liquid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2969-23C4-4534-8290-E2BB6A8E1D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pretation of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s labeled [T] and [C] of the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 labeled [C] of the cartridge but not [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line is observed on the reading area [C], technical errors or product damage has occurred. In this case the test should be considered invalid and repeated using a new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0719-061C-4E92-ACA0-2E38E0E25A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67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tigen detection using the chromatographic immunoassa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18"/>
          <p:cNvGrpSpPr/>
          <p:nvPr/>
        </p:nvGrpSpPr>
        <p:grpSpPr>
          <a:xfrm>
            <a:off x="755640" y="1413000"/>
            <a:ext cx="5111640" cy="4752720"/>
            <a:chOff x="755640" y="1413000"/>
            <a:chExt cx="5111640" cy="4752720"/>
          </a:xfrm>
        </p:grpSpPr>
        <p:sp>
          <p:nvSpPr>
            <p:cNvPr id="478" name="Rectangle 3"/>
            <p:cNvSpPr/>
            <p:nvPr/>
          </p:nvSpPr>
          <p:spPr>
            <a:xfrm>
              <a:off x="755640" y="1413000"/>
              <a:ext cx="4968720" cy="475272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6"/>
            <p:cNvGrpSpPr/>
            <p:nvPr/>
          </p:nvGrpSpPr>
          <p:grpSpPr>
            <a:xfrm>
              <a:off x="1187280" y="2637000"/>
              <a:ext cx="4103640" cy="792000"/>
              <a:chOff x="1187280" y="2637000"/>
              <a:chExt cx="4103640" cy="792000"/>
            </a:xfrm>
          </p:grpSpPr>
          <p:pic>
            <p:nvPicPr>
              <p:cNvPr id="480" name="Picture 7" descr=""/>
              <p:cNvPicPr/>
              <p:nvPr/>
            </p:nvPicPr>
            <p:blipFill>
              <a:blip r:embed="rId1"/>
              <a:srcRect l="27074" t="23035" r="32371" b="66526"/>
              <a:stretch/>
            </p:blipFill>
            <p:spPr>
              <a:xfrm>
                <a:off x="1187280" y="263700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Line 8"/>
              <p:cNvSpPr/>
              <p:nvPr/>
            </p:nvSpPr>
            <p:spPr>
              <a:xfrm>
                <a:off x="2842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9"/>
              <p:cNvSpPr/>
              <p:nvPr/>
            </p:nvSpPr>
            <p:spPr>
              <a:xfrm>
                <a:off x="3274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Text Box 10"/>
            <p:cNvSpPr/>
            <p:nvPr/>
          </p:nvSpPr>
          <p:spPr>
            <a:xfrm>
              <a:off x="826920" y="1413000"/>
              <a:ext cx="496908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Interpretatio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MTB complex – two purple-reddish bands at test and control si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1"/>
            <p:cNvGrpSpPr/>
            <p:nvPr/>
          </p:nvGrpSpPr>
          <p:grpSpPr>
            <a:xfrm>
              <a:off x="1116000" y="4365720"/>
              <a:ext cx="4103640" cy="792000"/>
              <a:chOff x="1116000" y="4365720"/>
              <a:chExt cx="4103640" cy="792000"/>
            </a:xfrm>
          </p:grpSpPr>
          <p:pic>
            <p:nvPicPr>
              <p:cNvPr id="485" name="Picture 12" descr=""/>
              <p:cNvPicPr/>
              <p:nvPr/>
            </p:nvPicPr>
            <p:blipFill>
              <a:blip r:embed="rId2"/>
              <a:srcRect l="27074" t="23035" r="32371" b="66526"/>
              <a:stretch/>
            </p:blipFill>
            <p:spPr>
              <a:xfrm>
                <a:off x="1116000" y="436572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Line 13"/>
              <p:cNvSpPr/>
              <p:nvPr/>
            </p:nvSpPr>
            <p:spPr>
              <a:xfrm>
                <a:off x="2771640" y="4654440"/>
                <a:ext cx="0" cy="14472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Text Box 14"/>
            <p:cNvSpPr/>
            <p:nvPr/>
          </p:nvSpPr>
          <p:spPr>
            <a:xfrm>
              <a:off x="900000" y="3716280"/>
              <a:ext cx="48243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TM or other bacterial species – one purple-reddish band only at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5"/>
            <p:cNvSpPr/>
            <p:nvPr/>
          </p:nvSpPr>
          <p:spPr>
            <a:xfrm>
              <a:off x="826920" y="5445000"/>
              <a:ext cx="504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ote: The test cannot be interpreted if there is no band at the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9"/>
          <p:cNvGrpSpPr/>
          <p:nvPr/>
        </p:nvGrpSpPr>
        <p:grpSpPr>
          <a:xfrm>
            <a:off x="6012000" y="2708280"/>
            <a:ext cx="2879640" cy="1297080"/>
            <a:chOff x="6012000" y="2708280"/>
            <a:chExt cx="2879640" cy="1297080"/>
          </a:xfrm>
        </p:grpSpPr>
        <p:sp>
          <p:nvSpPr>
            <p:cNvPr id="490" name="Rectangle 2"/>
            <p:cNvSpPr/>
            <p:nvPr/>
          </p:nvSpPr>
          <p:spPr>
            <a:xfrm>
              <a:off x="6012000" y="2708280"/>
              <a:ext cx="2879640" cy="129708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Picture 16" descr=""/>
            <p:cNvPicPr/>
            <p:nvPr/>
          </p:nvPicPr>
          <p:blipFill>
            <a:blip r:embed="rId3"/>
            <a:srcRect l="13850" t="54889" r="11856" b="21000"/>
            <a:stretch/>
          </p:blipFill>
          <p:spPr>
            <a:xfrm>
              <a:off x="6083280" y="2781360"/>
              <a:ext cx="2736360" cy="11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102E-B26B-429B-8004-C0AFAA349B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sitive capilia result</a:t>
            </a:r>
            <a:br>
              <a:rPr sz="46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photo kindly provided by BMA laboratory, Bangkok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7" descr="IMG_0740"/>
          <p:cNvPicPr/>
          <p:nvPr/>
        </p:nvPicPr>
        <p:blipFill>
          <a:blip r:embed="rId1"/>
          <a:stretch/>
        </p:blipFill>
        <p:spPr>
          <a:xfrm>
            <a:off x="1298520" y="1600200"/>
            <a:ext cx="6545160" cy="4419720"/>
          </a:xfrm>
          <a:prstGeom prst="rect">
            <a:avLst/>
          </a:prstGeom>
          <a:ln w="0">
            <a:noFill/>
          </a:ln>
        </p:spPr>
      </p:pic>
      <p:sp>
        <p:nvSpPr>
          <p:cNvPr id="4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C9D6-E745-469C-990C-A528AADD06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draw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ers designated as A, B &amp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Measurement Module (SM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be R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“st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or Assemb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detectors for each row.  Moves Left to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Indic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ree lamps on dra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 Status 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ndicators on each station. Colors: red, green or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9BCA-3B28-4702-B4F9-383BE25EFA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C MGIT 960 – decreased time to detection fo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a smear to confirm MGIT tube growth is AFB positive and rule our contamin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ll AFB growth as MTBC before setting up D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ID system – lateral f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A0D6-D1C2-4338-8630-0D74EDB5F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barcode scann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on the front of the instrument to provide ability to scan tube labels for specimen ident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n automatically whenever the system is ready (and expecting) to scan a bar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CD display and keypa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s information about system status and function key defin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isplay shows icons representing the current soft key assignments at the bottom of th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18C6-245B-4E1C-A765-4D7746ADB4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BL MGIT tube (7 ml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Middlebrook 7H9 broth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escent indicator detects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in silicon in bottom of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use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eased from indicator in tube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escence indicates growth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8"/>
          <p:cNvCxnSpPr/>
          <p:nvPr/>
        </p:nvCxnSpPr>
        <p:spPr>
          <a:xfrm>
            <a:off x="7472160" y="3666600"/>
            <a:ext cx="702360" cy="15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8" name="Picture 4" descr=""/>
          <p:cNvPicPr/>
          <p:nvPr/>
        </p:nvPicPr>
        <p:blipFill>
          <a:blip r:embed="rId1"/>
          <a:srcRect l="77583" t="0" r="0" b="13190"/>
          <a:stretch/>
        </p:blipFill>
        <p:spPr>
          <a:xfrm>
            <a:off x="8220240" y="1330200"/>
            <a:ext cx="617400" cy="2909880"/>
          </a:xfrm>
          <a:prstGeom prst="rect">
            <a:avLst/>
          </a:prstGeom>
          <a:ln w="12600">
            <a:solidFill>
              <a:srgbClr val="4d7373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dicator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424160" y="1949400"/>
            <a:ext cx="6257160" cy="3485880"/>
            <a:chOff x="1424160" y="1949400"/>
            <a:chExt cx="6257160" cy="3485880"/>
          </a:xfrm>
        </p:grpSpPr>
        <p:grpSp>
          <p:nvGrpSpPr>
            <p:cNvPr id="161" name="Group 4"/>
            <p:cNvGrpSpPr/>
            <p:nvPr/>
          </p:nvGrpSpPr>
          <p:grpSpPr>
            <a:xfrm>
              <a:off x="1424160" y="4966560"/>
              <a:ext cx="1985040" cy="468720"/>
              <a:chOff x="1424160" y="4966560"/>
              <a:chExt cx="1985040" cy="468720"/>
            </a:xfrm>
          </p:grpSpPr>
          <p:sp>
            <p:nvSpPr>
              <p:cNvPr id="162" name="Line 5"/>
              <p:cNvSpPr/>
              <p:nvPr/>
            </p:nvSpPr>
            <p:spPr>
              <a:xfrm flipH="1">
                <a:off x="142416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"/>
              <p:cNvSpPr/>
              <p:nvPr/>
            </p:nvSpPr>
            <p:spPr>
              <a:xfrm flipH="1">
                <a:off x="182844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7"/>
              <p:cNvSpPr/>
              <p:nvPr/>
            </p:nvSpPr>
            <p:spPr>
              <a:xfrm>
                <a:off x="2415960" y="4966560"/>
                <a:ext cx="0" cy="46872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278460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305568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0"/>
            <p:cNvGrpSpPr/>
            <p:nvPr/>
          </p:nvGrpSpPr>
          <p:grpSpPr>
            <a:xfrm>
              <a:off x="1719000" y="1949400"/>
              <a:ext cx="1341000" cy="2821320"/>
              <a:chOff x="1719000" y="1949400"/>
              <a:chExt cx="1341000" cy="2821320"/>
            </a:xfrm>
          </p:grpSpPr>
          <p:sp>
            <p:nvSpPr>
              <p:cNvPr id="168" name="Rectangle 11"/>
              <p:cNvSpPr/>
              <p:nvPr/>
            </p:nvSpPr>
            <p:spPr>
              <a:xfrm>
                <a:off x="1719000" y="2199600"/>
                <a:ext cx="133956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1719000" y="2889360"/>
                <a:ext cx="133956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Group 13"/>
              <p:cNvGrpSpPr/>
              <p:nvPr/>
            </p:nvGrpSpPr>
            <p:grpSpPr>
              <a:xfrm>
                <a:off x="1719000" y="1949400"/>
                <a:ext cx="1341000" cy="2821320"/>
                <a:chOff x="1719000" y="1949400"/>
                <a:chExt cx="1341000" cy="2821320"/>
              </a:xfrm>
            </p:grpSpPr>
            <p:sp>
              <p:nvSpPr>
                <p:cNvPr id="171" name="Rectangle 14"/>
                <p:cNvSpPr/>
                <p:nvPr/>
              </p:nvSpPr>
              <p:spPr>
                <a:xfrm>
                  <a:off x="1719000" y="3990960"/>
                  <a:ext cx="133956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5"/>
                <p:cNvSpPr/>
                <p:nvPr/>
              </p:nvSpPr>
              <p:spPr>
                <a:xfrm>
                  <a:off x="1719000" y="1949400"/>
                  <a:ext cx="1341000" cy="2821320"/>
                </a:xfrm>
                <a:custGeom>
                  <a:avLst/>
                  <a:gdLst>
                    <a:gd name="textAreaLeft" fmla="*/ 0 w 1341000"/>
                    <a:gd name="textAreaRight" fmla="*/ 1341360 w 134100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91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90" y="2160"/>
                      </a:lnTo>
                      <a:lnTo>
                        <a:pt x="890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Rectangle 16"/>
              <p:cNvSpPr/>
              <p:nvPr/>
            </p:nvSpPr>
            <p:spPr>
              <a:xfrm>
                <a:off x="2514600" y="42120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7"/>
              <p:cNvSpPr/>
              <p:nvPr/>
            </p:nvSpPr>
            <p:spPr>
              <a:xfrm>
                <a:off x="1837080" y="42444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8"/>
              <p:cNvSpPr/>
              <p:nvPr/>
            </p:nvSpPr>
            <p:spPr>
              <a:xfrm>
                <a:off x="2667960" y="44575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9"/>
              <p:cNvSpPr/>
              <p:nvPr/>
            </p:nvSpPr>
            <p:spPr>
              <a:xfrm>
                <a:off x="2039040" y="4127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20"/>
              <p:cNvSpPr/>
              <p:nvPr/>
            </p:nvSpPr>
            <p:spPr>
              <a:xfrm>
                <a:off x="2299320" y="434088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21"/>
              <p:cNvSpPr/>
              <p:nvPr/>
            </p:nvSpPr>
            <p:spPr>
              <a:xfrm>
                <a:off x="1826640" y="44521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22"/>
              <p:cNvSpPr/>
              <p:nvPr/>
            </p:nvSpPr>
            <p:spPr>
              <a:xfrm>
                <a:off x="2658600" y="3965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23"/>
              <p:cNvSpPr/>
              <p:nvPr/>
            </p:nvSpPr>
            <p:spPr>
              <a:xfrm>
                <a:off x="2075400" y="4444200"/>
                <a:ext cx="3459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24"/>
              <p:cNvSpPr/>
              <p:nvPr/>
            </p:nvSpPr>
            <p:spPr>
              <a:xfrm>
                <a:off x="1802880" y="393876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25"/>
              <p:cNvSpPr/>
              <p:nvPr/>
            </p:nvSpPr>
            <p:spPr>
              <a:xfrm>
                <a:off x="2272320" y="39870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26"/>
              <p:cNvSpPr/>
              <p:nvPr/>
            </p:nvSpPr>
            <p:spPr>
              <a:xfrm>
                <a:off x="2194560" y="35798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7"/>
              <p:cNvSpPr/>
              <p:nvPr/>
            </p:nvSpPr>
            <p:spPr>
              <a:xfrm>
                <a:off x="2530080" y="3361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8"/>
              <p:cNvSpPr/>
              <p:nvPr/>
            </p:nvSpPr>
            <p:spPr>
              <a:xfrm>
                <a:off x="2698560" y="360180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29"/>
              <p:cNvSpPr/>
              <p:nvPr/>
            </p:nvSpPr>
            <p:spPr>
              <a:xfrm>
                <a:off x="1857240" y="294264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0"/>
              <p:cNvSpPr/>
              <p:nvPr/>
            </p:nvSpPr>
            <p:spPr>
              <a:xfrm>
                <a:off x="2274120" y="303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31"/>
              <p:cNvSpPr/>
              <p:nvPr/>
            </p:nvSpPr>
            <p:spPr>
              <a:xfrm>
                <a:off x="180000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32"/>
              <p:cNvSpPr/>
              <p:nvPr/>
            </p:nvSpPr>
            <p:spPr>
              <a:xfrm>
                <a:off x="2586960" y="2972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33"/>
              <p:cNvSpPr/>
              <p:nvPr/>
            </p:nvSpPr>
            <p:spPr>
              <a:xfrm>
                <a:off x="2572920" y="22939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34"/>
              <p:cNvSpPr/>
              <p:nvPr/>
            </p:nvSpPr>
            <p:spPr>
              <a:xfrm>
                <a:off x="1845720" y="22143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35"/>
              <p:cNvSpPr/>
              <p:nvPr/>
            </p:nvSpPr>
            <p:spPr>
              <a:xfrm>
                <a:off x="2226240" y="25052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36"/>
              <p:cNvSpPr/>
              <p:nvPr/>
            </p:nvSpPr>
            <p:spPr>
              <a:xfrm>
                <a:off x="1982520" y="324432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37"/>
              <p:cNvSpPr/>
              <p:nvPr/>
            </p:nvSpPr>
            <p:spPr>
              <a:xfrm>
                <a:off x="1911240" y="2587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8"/>
            <p:cNvGrpSpPr/>
            <p:nvPr/>
          </p:nvGrpSpPr>
          <p:grpSpPr>
            <a:xfrm>
              <a:off x="6019560" y="1949400"/>
              <a:ext cx="1338480" cy="2821320"/>
              <a:chOff x="6019560" y="1949400"/>
              <a:chExt cx="1338480" cy="2821320"/>
            </a:xfrm>
          </p:grpSpPr>
          <p:sp>
            <p:nvSpPr>
              <p:cNvPr id="196" name="Rectangle 39"/>
              <p:cNvSpPr/>
              <p:nvPr/>
            </p:nvSpPr>
            <p:spPr>
              <a:xfrm>
                <a:off x="6019560" y="2199600"/>
                <a:ext cx="133668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40"/>
              <p:cNvSpPr/>
              <p:nvPr/>
            </p:nvSpPr>
            <p:spPr>
              <a:xfrm>
                <a:off x="6019560" y="2889360"/>
                <a:ext cx="133668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41"/>
              <p:cNvGrpSpPr/>
              <p:nvPr/>
            </p:nvGrpSpPr>
            <p:grpSpPr>
              <a:xfrm>
                <a:off x="6019560" y="1949400"/>
                <a:ext cx="1338480" cy="2821320"/>
                <a:chOff x="6019560" y="1949400"/>
                <a:chExt cx="1338480" cy="2821320"/>
              </a:xfrm>
            </p:grpSpPr>
            <p:sp>
              <p:nvSpPr>
                <p:cNvPr id="199" name="Rectangle 42"/>
                <p:cNvSpPr/>
                <p:nvPr/>
              </p:nvSpPr>
              <p:spPr>
                <a:xfrm>
                  <a:off x="6019560" y="3990960"/>
                  <a:ext cx="133668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3"/>
                <p:cNvSpPr/>
                <p:nvPr/>
              </p:nvSpPr>
              <p:spPr>
                <a:xfrm>
                  <a:off x="6019560" y="1949400"/>
                  <a:ext cx="1338480" cy="2821320"/>
                </a:xfrm>
                <a:custGeom>
                  <a:avLst/>
                  <a:gdLst>
                    <a:gd name="textAreaLeft" fmla="*/ 0 w 1338480"/>
                    <a:gd name="textAreaRight" fmla="*/ 1338840 w 133848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89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88" y="2160"/>
                      </a:lnTo>
                      <a:lnTo>
                        <a:pt x="888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Rectangle 44"/>
              <p:cNvSpPr/>
              <p:nvPr/>
            </p:nvSpPr>
            <p:spPr>
              <a:xfrm>
                <a:off x="6742440" y="42001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45"/>
              <p:cNvSpPr/>
              <p:nvPr/>
            </p:nvSpPr>
            <p:spPr>
              <a:xfrm>
                <a:off x="6095160" y="43448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46"/>
              <p:cNvSpPr/>
              <p:nvPr/>
            </p:nvSpPr>
            <p:spPr>
              <a:xfrm>
                <a:off x="7020360" y="440496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47"/>
              <p:cNvSpPr/>
              <p:nvPr/>
            </p:nvSpPr>
            <p:spPr>
              <a:xfrm>
                <a:off x="6420600" y="406188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48"/>
              <p:cNvSpPr/>
              <p:nvPr/>
            </p:nvSpPr>
            <p:spPr>
              <a:xfrm>
                <a:off x="6597360" y="43448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49"/>
              <p:cNvSpPr/>
              <p:nvPr/>
            </p:nvSpPr>
            <p:spPr>
              <a:xfrm>
                <a:off x="6157440" y="41544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50"/>
              <p:cNvSpPr/>
              <p:nvPr/>
            </p:nvSpPr>
            <p:spPr>
              <a:xfrm>
                <a:off x="7037640" y="4017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51"/>
              <p:cNvSpPr/>
              <p:nvPr/>
            </p:nvSpPr>
            <p:spPr>
              <a:xfrm>
                <a:off x="6351840" y="4422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52"/>
              <p:cNvSpPr/>
              <p:nvPr/>
            </p:nvSpPr>
            <p:spPr>
              <a:xfrm>
                <a:off x="6088320" y="39704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53"/>
              <p:cNvSpPr/>
              <p:nvPr/>
            </p:nvSpPr>
            <p:spPr>
              <a:xfrm>
                <a:off x="6672240" y="39769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54"/>
              <p:cNvSpPr/>
              <p:nvPr/>
            </p:nvSpPr>
            <p:spPr>
              <a:xfrm>
                <a:off x="6683760" y="342180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55"/>
              <p:cNvSpPr/>
              <p:nvPr/>
            </p:nvSpPr>
            <p:spPr>
              <a:xfrm>
                <a:off x="6157800" y="294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56"/>
              <p:cNvSpPr/>
              <p:nvPr/>
            </p:nvSpPr>
            <p:spPr>
              <a:xfrm>
                <a:off x="610092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57"/>
              <p:cNvSpPr/>
              <p:nvPr/>
            </p:nvSpPr>
            <p:spPr>
              <a:xfrm>
                <a:off x="6889680" y="29739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58"/>
              <p:cNvSpPr/>
              <p:nvPr/>
            </p:nvSpPr>
            <p:spPr>
              <a:xfrm>
                <a:off x="6147360" y="3772080"/>
                <a:ext cx="784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59"/>
              <p:cNvSpPr/>
              <p:nvPr/>
            </p:nvSpPr>
            <p:spPr>
              <a:xfrm>
                <a:off x="7139520" y="295704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60"/>
              <p:cNvSpPr/>
              <p:nvPr/>
            </p:nvSpPr>
            <p:spPr>
              <a:xfrm>
                <a:off x="6426000" y="3066480"/>
                <a:ext cx="7812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61"/>
              <p:cNvSpPr/>
              <p:nvPr/>
            </p:nvSpPr>
            <p:spPr>
              <a:xfrm>
                <a:off x="7094520" y="3615120"/>
                <a:ext cx="78120" cy="993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62"/>
              <p:cNvSpPr/>
              <p:nvPr/>
            </p:nvSpPr>
            <p:spPr>
              <a:xfrm>
                <a:off x="6516360" y="331740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63"/>
              <p:cNvSpPr/>
              <p:nvPr/>
            </p:nvSpPr>
            <p:spPr>
              <a:xfrm>
                <a:off x="6894360" y="3787200"/>
                <a:ext cx="2052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64"/>
              <p:cNvSpPr/>
              <p:nvPr/>
            </p:nvSpPr>
            <p:spPr>
              <a:xfrm>
                <a:off x="6693840" y="30823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65"/>
              <p:cNvSpPr/>
              <p:nvPr/>
            </p:nvSpPr>
            <p:spPr>
              <a:xfrm>
                <a:off x="6392880" y="34585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66"/>
              <p:cNvSpPr/>
              <p:nvPr/>
            </p:nvSpPr>
            <p:spPr>
              <a:xfrm>
                <a:off x="6615720" y="3693600"/>
                <a:ext cx="2052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67"/>
              <p:cNvSpPr/>
              <p:nvPr/>
            </p:nvSpPr>
            <p:spPr>
              <a:xfrm>
                <a:off x="6771960" y="33015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68"/>
              <p:cNvSpPr/>
              <p:nvPr/>
            </p:nvSpPr>
            <p:spPr>
              <a:xfrm>
                <a:off x="7083720" y="342684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69"/>
              <p:cNvSpPr/>
              <p:nvPr/>
            </p:nvSpPr>
            <p:spPr>
              <a:xfrm>
                <a:off x="6136920" y="31449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0"/>
              <p:cNvSpPr/>
              <p:nvPr/>
            </p:nvSpPr>
            <p:spPr>
              <a:xfrm>
                <a:off x="6314760" y="22924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71"/>
              <p:cNvSpPr/>
              <p:nvPr/>
            </p:nvSpPr>
            <p:spPr>
              <a:xfrm>
                <a:off x="6811200" y="24883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2"/>
            <p:cNvGrpSpPr/>
            <p:nvPr/>
          </p:nvGrpSpPr>
          <p:grpSpPr>
            <a:xfrm>
              <a:off x="5695560" y="4966560"/>
              <a:ext cx="1985760" cy="468720"/>
              <a:chOff x="5695560" y="4966560"/>
              <a:chExt cx="1985760" cy="468720"/>
            </a:xfrm>
          </p:grpSpPr>
          <p:sp>
            <p:nvSpPr>
              <p:cNvPr id="230" name="Line 73"/>
              <p:cNvSpPr/>
              <p:nvPr/>
            </p:nvSpPr>
            <p:spPr>
              <a:xfrm flipH="1">
                <a:off x="5695560" y="4966560"/>
                <a:ext cx="35388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74"/>
              <p:cNvSpPr/>
              <p:nvPr/>
            </p:nvSpPr>
            <p:spPr>
              <a:xfrm flipH="1">
                <a:off x="610056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5"/>
              <p:cNvSpPr/>
              <p:nvPr/>
            </p:nvSpPr>
            <p:spPr>
              <a:xfrm>
                <a:off x="6687720" y="4966560"/>
                <a:ext cx="0" cy="46872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6"/>
              <p:cNvSpPr/>
              <p:nvPr/>
            </p:nvSpPr>
            <p:spPr>
              <a:xfrm>
                <a:off x="705672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77"/>
              <p:cNvSpPr/>
              <p:nvPr/>
            </p:nvSpPr>
            <p:spPr>
              <a:xfrm>
                <a:off x="7327800" y="4966560"/>
                <a:ext cx="35352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AutoShape 78"/>
          <p:cNvSpPr/>
          <p:nvPr/>
        </p:nvSpPr>
        <p:spPr>
          <a:xfrm rot="16200000">
            <a:off x="3416040" y="2044440"/>
            <a:ext cx="182880" cy="61452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9"/>
          <p:cNvSpPr/>
          <p:nvPr/>
        </p:nvSpPr>
        <p:spPr>
          <a:xfrm>
            <a:off x="3809880" y="2133720"/>
            <a:ext cx="1395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0"/>
          <p:cNvSpPr/>
          <p:nvPr/>
        </p:nvSpPr>
        <p:spPr>
          <a:xfrm flipH="1" rot="5400000">
            <a:off x="5395680" y="2044800"/>
            <a:ext cx="182880" cy="61416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1"/>
          <p:cNvSpPr/>
          <p:nvPr/>
        </p:nvSpPr>
        <p:spPr>
          <a:xfrm flipH="1" rot="5400000">
            <a:off x="550044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2"/>
          <p:cNvSpPr/>
          <p:nvPr/>
        </p:nvSpPr>
        <p:spPr>
          <a:xfrm>
            <a:off x="4345920" y="2971800"/>
            <a:ext cx="44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3"/>
          <p:cNvSpPr/>
          <p:nvPr/>
        </p:nvSpPr>
        <p:spPr>
          <a:xfrm rot="16200000">
            <a:off x="351216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4"/>
          <p:cNvSpPr/>
          <p:nvPr/>
        </p:nvSpPr>
        <p:spPr>
          <a:xfrm rot="16200000">
            <a:off x="344160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5"/>
          <p:cNvSpPr/>
          <p:nvPr/>
        </p:nvSpPr>
        <p:spPr>
          <a:xfrm>
            <a:off x="4303080" y="396252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6"/>
          <p:cNvSpPr/>
          <p:nvPr/>
        </p:nvSpPr>
        <p:spPr>
          <a:xfrm flipH="1" rot="5400000">
            <a:off x="548784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7"/>
          <p:cNvSpPr/>
          <p:nvPr/>
        </p:nvSpPr>
        <p:spPr>
          <a:xfrm>
            <a:off x="1257120" y="5473800"/>
            <a:ext cx="2256120" cy="305640"/>
          </a:xfrm>
          <a:prstGeom prst="rect">
            <a:avLst/>
          </a:prstGeom>
          <a:solidFill>
            <a:srgbClr val="fdc0e5"/>
          </a:solidFill>
          <a:ln w="12600">
            <a:solidFill>
              <a:srgbClr val="fdc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or no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8"/>
          <p:cNvSpPr/>
          <p:nvPr/>
        </p:nvSpPr>
        <p:spPr>
          <a:xfrm>
            <a:off x="5887800" y="5486400"/>
            <a:ext cx="1907280" cy="305640"/>
          </a:xfrm>
          <a:prstGeom prst="rect">
            <a:avLst/>
          </a:prstGeom>
          <a:solidFill>
            <a:srgbClr val="f95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9"/>
          <p:cNvSpPr/>
          <p:nvPr/>
        </p:nvSpPr>
        <p:spPr>
          <a:xfrm>
            <a:off x="1341000" y="1436760"/>
            <a:ext cx="2166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ga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0"/>
          <p:cNvSpPr/>
          <p:nvPr/>
        </p:nvSpPr>
        <p:spPr>
          <a:xfrm>
            <a:off x="5624640" y="1436760"/>
            <a:ext cx="21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9D26-C156-490F-BD79-FED02CAEBD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135400" y="1757520"/>
            <a:ext cx="3490920" cy="200160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tification of positives on draw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1280" y="2057400"/>
            <a:ext cx="414036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 lamp on drawer illu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ble alert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1301760" y="3159000"/>
            <a:ext cx="5556240" cy="2428920"/>
            <a:chOff x="1301760" y="3159000"/>
            <a:chExt cx="5556240" cy="2428920"/>
          </a:xfrm>
        </p:grpSpPr>
        <p:grpSp>
          <p:nvGrpSpPr>
            <p:cNvPr id="253" name="Group 6"/>
            <p:cNvGrpSpPr/>
            <p:nvPr/>
          </p:nvGrpSpPr>
          <p:grpSpPr>
            <a:xfrm>
              <a:off x="1301760" y="3159000"/>
              <a:ext cx="5556240" cy="2387880"/>
              <a:chOff x="1301760" y="3159000"/>
              <a:chExt cx="5556240" cy="2387880"/>
            </a:xfrm>
          </p:grpSpPr>
          <p:sp>
            <p:nvSpPr>
              <p:cNvPr id="254" name="Line 7"/>
              <p:cNvSpPr/>
              <p:nvPr/>
            </p:nvSpPr>
            <p:spPr>
              <a:xfrm flipH="1">
                <a:off x="1341000" y="3159000"/>
                <a:ext cx="4891320" cy="103680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8"/>
              <p:cNvSpPr/>
              <p:nvPr/>
            </p:nvSpPr>
            <p:spPr>
              <a:xfrm flipH="1">
                <a:off x="5578560" y="3251160"/>
                <a:ext cx="1279440" cy="94464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Group 9"/>
              <p:cNvGrpSpPr/>
              <p:nvPr/>
            </p:nvGrpSpPr>
            <p:grpSpPr>
              <a:xfrm>
                <a:off x="1301760" y="4324320"/>
                <a:ext cx="4224240" cy="1222560"/>
                <a:chOff x="1301760" y="4324320"/>
                <a:chExt cx="4224240" cy="1222560"/>
              </a:xfrm>
            </p:grpSpPr>
            <p:sp>
              <p:nvSpPr>
                <p:cNvPr id="257" name="AutoShape 10"/>
                <p:cNvSpPr/>
                <p:nvPr/>
              </p:nvSpPr>
              <p:spPr>
                <a:xfrm>
                  <a:off x="1301760" y="4324320"/>
                  <a:ext cx="4224240" cy="1222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dadada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1"/>
                <p:cNvSpPr/>
                <p:nvPr/>
              </p:nvSpPr>
              <p:spPr>
                <a:xfrm>
                  <a:off x="2938320" y="4552920"/>
                  <a:ext cx="857520" cy="765360"/>
                </a:xfrm>
                <a:prstGeom prst="rect">
                  <a:avLst/>
                </a:prstGeom>
                <a:solidFill>
                  <a:srgbClr val="00990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2"/>
                <p:cNvSpPr/>
                <p:nvPr/>
              </p:nvSpPr>
              <p:spPr>
                <a:xfrm>
                  <a:off x="1708200" y="4572000"/>
                  <a:ext cx="819000" cy="727200"/>
                </a:xfrm>
                <a:prstGeom prst="rect">
                  <a:avLst/>
                </a:prstGeom>
                <a:solidFill>
                  <a:srgbClr val="fc0128"/>
                </a:solidFill>
                <a:ln w="507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3"/>
                <p:cNvSpPr/>
                <p:nvPr/>
              </p:nvSpPr>
              <p:spPr>
                <a:xfrm>
                  <a:off x="1829160" y="4478400"/>
                  <a:ext cx="5767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+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4"/>
                <p:cNvSpPr/>
                <p:nvPr/>
              </p:nvSpPr>
              <p:spPr>
                <a:xfrm>
                  <a:off x="3103200" y="4478400"/>
                  <a:ext cx="5281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–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15"/>
                <p:cNvSpPr/>
                <p:nvPr/>
              </p:nvSpPr>
              <p:spPr>
                <a:xfrm>
                  <a:off x="4249800" y="4552920"/>
                  <a:ext cx="857160" cy="765360"/>
                </a:xfrm>
                <a:prstGeom prst="rect">
                  <a:avLst/>
                </a:prstGeom>
                <a:solidFill>
                  <a:srgbClr val="ff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6"/>
                <p:cNvSpPr/>
                <p:nvPr/>
              </p:nvSpPr>
              <p:spPr>
                <a:xfrm>
                  <a:off x="4487760" y="4478400"/>
                  <a:ext cx="381600" cy="9154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!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Oval 17"/>
            <p:cNvSpPr/>
            <p:nvPr/>
          </p:nvSpPr>
          <p:spPr>
            <a:xfrm>
              <a:off x="1473120" y="4343400"/>
              <a:ext cx="1244520" cy="1244520"/>
            </a:xfrm>
            <a:prstGeom prst="ellipse">
              <a:avLst/>
            </a:prstGeom>
            <a:noFill/>
            <a:ln w="50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PMingLiU"/>
              </a:rPr>
              <a:t>BACTEC™ MGIT™ 960 </a:t>
            </a:r>
            <a:br>
              <a:rPr sz="4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PMingLiU"/>
              </a:rPr>
              <a:t>Instrument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914400" y="1371600"/>
            <a:ext cx="7390440" cy="4570920"/>
            <a:chOff x="914400" y="1371600"/>
            <a:chExt cx="7390440" cy="4570920"/>
          </a:xfrm>
        </p:grpSpPr>
        <p:grpSp>
          <p:nvGrpSpPr>
            <p:cNvPr id="267" name="Group 4"/>
            <p:cNvGrpSpPr/>
            <p:nvPr/>
          </p:nvGrpSpPr>
          <p:grpSpPr>
            <a:xfrm>
              <a:off x="914400" y="1371600"/>
              <a:ext cx="7390440" cy="4570920"/>
              <a:chOff x="914400" y="1371600"/>
              <a:chExt cx="7390440" cy="4570920"/>
            </a:xfrm>
          </p:grpSpPr>
          <p:grpSp>
            <p:nvGrpSpPr>
              <p:cNvPr id="268" name="Group 5"/>
              <p:cNvGrpSpPr/>
              <p:nvPr/>
            </p:nvGrpSpPr>
            <p:grpSpPr>
              <a:xfrm>
                <a:off x="930240" y="5315400"/>
                <a:ext cx="7374600" cy="627120"/>
                <a:chOff x="930240" y="5315400"/>
                <a:chExt cx="7374600" cy="627120"/>
              </a:xfrm>
            </p:grpSpPr>
            <p:sp>
              <p:nvSpPr>
                <p:cNvPr id="269" name="AutoShape 6"/>
                <p:cNvSpPr/>
                <p:nvPr/>
              </p:nvSpPr>
              <p:spPr>
                <a:xfrm>
                  <a:off x="18756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7"/>
                <p:cNvSpPr/>
                <p:nvPr/>
              </p:nvSpPr>
              <p:spPr>
                <a:xfrm>
                  <a:off x="282312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8"/>
                <p:cNvSpPr/>
                <p:nvPr/>
              </p:nvSpPr>
              <p:spPr>
                <a:xfrm>
                  <a:off x="377100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9"/>
                <p:cNvSpPr/>
                <p:nvPr/>
              </p:nvSpPr>
              <p:spPr>
                <a:xfrm>
                  <a:off x="471672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10"/>
                <p:cNvSpPr/>
                <p:nvPr/>
              </p:nvSpPr>
              <p:spPr>
                <a:xfrm>
                  <a:off x="5660280" y="5315400"/>
                  <a:ext cx="7488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11"/>
                <p:cNvSpPr/>
                <p:nvPr/>
              </p:nvSpPr>
              <p:spPr>
                <a:xfrm>
                  <a:off x="66078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12"/>
                <p:cNvSpPr/>
                <p:nvPr/>
              </p:nvSpPr>
              <p:spPr>
                <a:xfrm>
                  <a:off x="930240" y="5315400"/>
                  <a:ext cx="7470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13"/>
                <p:cNvSpPr/>
                <p:nvPr/>
              </p:nvSpPr>
              <p:spPr>
                <a:xfrm>
                  <a:off x="7557480" y="5315400"/>
                  <a:ext cx="7473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4"/>
              <p:cNvGrpSpPr/>
              <p:nvPr/>
            </p:nvGrpSpPr>
            <p:grpSpPr>
              <a:xfrm>
                <a:off x="914400" y="1371600"/>
                <a:ext cx="7378560" cy="3809520"/>
                <a:chOff x="914400" y="1371600"/>
                <a:chExt cx="7378560" cy="3809520"/>
              </a:xfrm>
            </p:grpSpPr>
            <p:grpSp>
              <p:nvGrpSpPr>
                <p:cNvPr id="278" name="Group 15"/>
                <p:cNvGrpSpPr/>
                <p:nvPr/>
              </p:nvGrpSpPr>
              <p:grpSpPr>
                <a:xfrm>
                  <a:off x="914400" y="1371600"/>
                  <a:ext cx="7378560" cy="3809520"/>
                  <a:chOff x="914400" y="1371600"/>
                  <a:chExt cx="7378560" cy="3809520"/>
                </a:xfrm>
              </p:grpSpPr>
              <p:grpSp>
                <p:nvGrpSpPr>
                  <p:cNvPr id="279" name="Group 16"/>
                  <p:cNvGrpSpPr/>
                  <p:nvPr/>
                </p:nvGrpSpPr>
                <p:grpSpPr>
                  <a:xfrm>
                    <a:off x="914400" y="1371600"/>
                    <a:ext cx="7378560" cy="3809520"/>
                    <a:chOff x="914400" y="1371600"/>
                    <a:chExt cx="7378560" cy="3809520"/>
                  </a:xfrm>
                </p:grpSpPr>
                <p:grpSp>
                  <p:nvGrpSpPr>
                    <p:cNvPr id="280" name="Group 17"/>
                    <p:cNvGrpSpPr/>
                    <p:nvPr/>
                  </p:nvGrpSpPr>
                  <p:grpSpPr>
                    <a:xfrm>
                      <a:off x="914400" y="1371600"/>
                      <a:ext cx="7378560" cy="3809520"/>
                      <a:chOff x="914400" y="1371600"/>
                      <a:chExt cx="7378560" cy="3809520"/>
                    </a:xfrm>
                  </p:grpSpPr>
                  <p:grpSp>
                    <p:nvGrpSpPr>
                      <p:cNvPr id="281" name="Group 18"/>
                      <p:cNvGrpSpPr/>
                      <p:nvPr/>
                    </p:nvGrpSpPr>
                    <p:grpSpPr>
                      <a:xfrm>
                        <a:off x="914400" y="1371600"/>
                        <a:ext cx="7378560" cy="3809520"/>
                        <a:chOff x="914400" y="1371600"/>
                        <a:chExt cx="7378560" cy="3809520"/>
                      </a:xfrm>
                    </p:grpSpPr>
                    <p:grpSp>
                      <p:nvGrpSpPr>
                        <p:cNvPr id="282" name="Group 19"/>
                        <p:cNvGrpSpPr/>
                        <p:nvPr/>
                      </p:nvGrpSpPr>
                      <p:grpSpPr>
                        <a:xfrm>
                          <a:off x="914400" y="1371600"/>
                          <a:ext cx="7378560" cy="3809520"/>
                          <a:chOff x="914400" y="1371600"/>
                          <a:chExt cx="7378560" cy="3809520"/>
                        </a:xfrm>
                      </p:grpSpPr>
                      <p:sp>
                        <p:nvSpPr>
                          <p:cNvPr id="283" name="Rectangle 20"/>
                          <p:cNvSpPr/>
                          <p:nvPr/>
                        </p:nvSpPr>
                        <p:spPr>
                          <a:xfrm>
                            <a:off x="914400" y="1371600"/>
                            <a:ext cx="7378560" cy="3809520"/>
                          </a:xfrm>
                          <a:prstGeom prst="rect">
                            <a:avLst/>
                          </a:prstGeom>
                          <a:solidFill>
                            <a:srgbClr val="ccffff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" name="Rectangle 21"/>
                          <p:cNvSpPr/>
                          <p:nvPr/>
                        </p:nvSpPr>
                        <p:spPr>
                          <a:xfrm>
                            <a:off x="941400" y="4317840"/>
                            <a:ext cx="7339680" cy="85284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" name="Line 22"/>
                          <p:cNvSpPr/>
                          <p:nvPr/>
                        </p:nvSpPr>
                        <p:spPr>
                          <a:xfrm>
                            <a:off x="365940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23"/>
                          <p:cNvSpPr/>
                          <p:nvPr/>
                        </p:nvSpPr>
                        <p:spPr>
                          <a:xfrm>
                            <a:off x="17917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24"/>
                          <p:cNvSpPr/>
                          <p:nvPr/>
                        </p:nvSpPr>
                        <p:spPr>
                          <a:xfrm>
                            <a:off x="2725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25"/>
                          <p:cNvSpPr/>
                          <p:nvPr/>
                        </p:nvSpPr>
                        <p:spPr>
                          <a:xfrm>
                            <a:off x="64609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9" name="Line 26"/>
                          <p:cNvSpPr/>
                          <p:nvPr/>
                        </p:nvSpPr>
                        <p:spPr>
                          <a:xfrm>
                            <a:off x="552708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" name="Line 27"/>
                          <p:cNvSpPr/>
                          <p:nvPr/>
                        </p:nvSpPr>
                        <p:spPr>
                          <a:xfrm>
                            <a:off x="7396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" name="Group 28"/>
                        <p:cNvGrpSpPr/>
                        <p:nvPr/>
                      </p:nvGrpSpPr>
                      <p:grpSpPr>
                        <a:xfrm>
                          <a:off x="1040760" y="4410000"/>
                          <a:ext cx="6928560" cy="616320"/>
                          <a:chOff x="1040760" y="4410000"/>
                          <a:chExt cx="6928560" cy="616320"/>
                        </a:xfrm>
                      </p:grpSpPr>
                      <p:pic>
                        <p:nvPicPr>
                          <p:cNvPr id="292" name="Picture 29" descr=""/>
                          <p:cNvPicPr/>
                          <p:nvPr/>
                        </p:nvPicPr>
                        <p:blipFill>
                          <a:blip r:embed="rId1"/>
                          <a:stretch/>
                        </p:blipFill>
                        <p:spPr>
                          <a:xfrm>
                            <a:off x="1040760" y="4410000"/>
                            <a:ext cx="599040" cy="61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3" name="Picture 30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7658640" y="4445280"/>
                            <a:ext cx="310680" cy="52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4" name="Picture 31" descr=""/>
                          <p:cNvPicPr/>
                          <p:nvPr/>
                        </p:nvPicPr>
                        <p:blipFill>
                          <a:blip r:embed="rId3"/>
                          <a:stretch/>
                        </p:blipFill>
                        <p:spPr>
                          <a:xfrm>
                            <a:off x="1904400" y="4564440"/>
                            <a:ext cx="705960" cy="38664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</p:grpSp>
                  </p:grpSp>
                  <p:sp>
                    <p:nvSpPr>
                      <p:cNvPr id="295" name="Line 32"/>
                      <p:cNvSpPr/>
                      <p:nvPr/>
                    </p:nvSpPr>
                    <p:spPr>
                      <a:xfrm>
                        <a:off x="382140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33"/>
                      <p:cNvSpPr/>
                      <p:nvPr/>
                    </p:nvSpPr>
                    <p:spPr>
                      <a:xfrm>
                        <a:off x="500976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7" name="Line 34"/>
                    <p:cNvSpPr/>
                    <p:nvPr/>
                  </p:nvSpPr>
                  <p:spPr>
                    <a:xfrm>
                      <a:off x="953640" y="3113640"/>
                      <a:ext cx="7319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35"/>
                  <p:cNvGrpSpPr/>
                  <p:nvPr/>
                </p:nvGrpSpPr>
                <p:grpSpPr>
                  <a:xfrm>
                    <a:off x="3969720" y="1643400"/>
                    <a:ext cx="699480" cy="1040760"/>
                    <a:chOff x="3969720" y="1643400"/>
                    <a:chExt cx="699480" cy="1040760"/>
                  </a:xfrm>
                </p:grpSpPr>
                <p:sp>
                  <p:nvSpPr>
                    <p:cNvPr id="299" name="Rectangle 36"/>
                    <p:cNvSpPr/>
                    <p:nvPr/>
                  </p:nvSpPr>
                  <p:spPr>
                    <a:xfrm>
                      <a:off x="3969720" y="2412720"/>
                      <a:ext cx="699480" cy="271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A / D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300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45480" y="1643400"/>
                      <a:ext cx="38304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01" name="Group 38"/>
                  <p:cNvGrpSpPr/>
                  <p:nvPr/>
                </p:nvGrpSpPr>
                <p:grpSpPr>
                  <a:xfrm>
                    <a:off x="963000" y="1454760"/>
                    <a:ext cx="1882080" cy="1476360"/>
                    <a:chOff x="963000" y="1454760"/>
                    <a:chExt cx="1882080" cy="1476360"/>
                  </a:xfrm>
                </p:grpSpPr>
                <p:sp>
                  <p:nvSpPr>
                    <p:cNvPr id="302" name="Rectangle 39"/>
                    <p:cNvSpPr/>
                    <p:nvPr/>
                  </p:nvSpPr>
                  <p:spPr>
                    <a:xfrm>
                      <a:off x="963000" y="1454760"/>
                      <a:ext cx="407160" cy="33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3" name="Group 40"/>
                    <p:cNvGrpSpPr/>
                    <p:nvPr/>
                  </p:nvGrpSpPr>
                  <p:grpSpPr>
                    <a:xfrm>
                      <a:off x="2055960" y="1509120"/>
                      <a:ext cx="789120" cy="825480"/>
                      <a:chOff x="2055960" y="1509120"/>
                      <a:chExt cx="789120" cy="825480"/>
                    </a:xfrm>
                  </p:grpSpPr>
                  <p:sp>
                    <p:nvSpPr>
                      <p:cNvPr id="304" name="Rectangle 41"/>
                      <p:cNvSpPr/>
                      <p:nvPr/>
                    </p:nvSpPr>
                    <p:spPr>
                      <a:xfrm>
                        <a:off x="2066400" y="1509120"/>
                        <a:ext cx="77868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9/19/96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" name="Rectangle 42"/>
                      <p:cNvSpPr/>
                      <p:nvPr/>
                    </p:nvSpPr>
                    <p:spPr>
                      <a:xfrm>
                        <a:off x="2067120" y="1787400"/>
                        <a:ext cx="57312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0:59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Rectangle 43"/>
                      <p:cNvSpPr/>
                      <p:nvPr/>
                    </p:nvSpPr>
                    <p:spPr>
                      <a:xfrm>
                        <a:off x="2055960" y="2063160"/>
                        <a:ext cx="73620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37.2 ° C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7" name="Group 44"/>
                    <p:cNvGrpSpPr/>
                    <p:nvPr/>
                  </p:nvGrpSpPr>
                  <p:grpSpPr>
                    <a:xfrm>
                      <a:off x="1353960" y="1538640"/>
                      <a:ext cx="657000" cy="1392480"/>
                      <a:chOff x="1353960" y="1538640"/>
                      <a:chExt cx="657000" cy="1392480"/>
                    </a:xfrm>
                  </p:grpSpPr>
                  <p:pic>
                    <p:nvPicPr>
                      <p:cNvPr id="308" name="Picture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552320" y="153864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09" name="Picture 4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552320" y="183960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0" name="Picture 4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599120" y="2180520"/>
                        <a:ext cx="167040" cy="26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1" name="Picture 4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353960" y="2571840"/>
                        <a:ext cx="657000" cy="35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312" name="Group 49"/>
                  <p:cNvGrpSpPr/>
                  <p:nvPr/>
                </p:nvGrpSpPr>
                <p:grpSpPr>
                  <a:xfrm>
                    <a:off x="5438160" y="1436400"/>
                    <a:ext cx="2671920" cy="1455120"/>
                    <a:chOff x="5438160" y="1436400"/>
                    <a:chExt cx="2671920" cy="1455120"/>
                  </a:xfrm>
                </p:grpSpPr>
                <p:grpSp>
                  <p:nvGrpSpPr>
                    <p:cNvPr id="313" name="Group 50"/>
                    <p:cNvGrpSpPr/>
                    <p:nvPr/>
                  </p:nvGrpSpPr>
                  <p:grpSpPr>
                    <a:xfrm>
                      <a:off x="5438160" y="1676880"/>
                      <a:ext cx="153000" cy="1214640"/>
                      <a:chOff x="5438160" y="1676880"/>
                      <a:chExt cx="153000" cy="1214640"/>
                    </a:xfrm>
                  </p:grpSpPr>
                  <p:pic>
                    <p:nvPicPr>
                      <p:cNvPr id="314" name="Picture 51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442120" y="1676880"/>
                        <a:ext cx="143280" cy="15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5" name="Picture 52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442120" y="1848240"/>
                        <a:ext cx="145440" cy="15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6" name="Picture 53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5442120" y="2023920"/>
                        <a:ext cx="145440" cy="15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7" name="Picture 5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439600" y="2544480"/>
                        <a:ext cx="151200" cy="16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8" name="Picture 55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5438160" y="2726640"/>
                        <a:ext cx="153000" cy="16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9" name="Picture 5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9600" y="2364840"/>
                        <a:ext cx="151200" cy="16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20" name="Picture 57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447520" y="2201760"/>
                        <a:ext cx="133560" cy="14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321" name="Group 58"/>
                    <p:cNvGrpSpPr/>
                    <p:nvPr/>
                  </p:nvGrpSpPr>
                  <p:grpSpPr>
                    <a:xfrm>
                      <a:off x="6001920" y="1436400"/>
                      <a:ext cx="2108160" cy="1435320"/>
                      <a:chOff x="6001920" y="1436400"/>
                      <a:chExt cx="2108160" cy="1435320"/>
                    </a:xfrm>
                  </p:grpSpPr>
                  <p:grpSp>
                    <p:nvGrpSpPr>
                      <p:cNvPr id="322" name="Group 59"/>
                      <p:cNvGrpSpPr/>
                      <p:nvPr/>
                    </p:nvGrpSpPr>
                    <p:grpSpPr>
                      <a:xfrm>
                        <a:off x="6001920" y="1580400"/>
                        <a:ext cx="2108160" cy="1291320"/>
                        <a:chOff x="6001920" y="1580400"/>
                        <a:chExt cx="2108160" cy="1291320"/>
                      </a:xfrm>
                    </p:grpSpPr>
                    <p:sp>
                      <p:nvSpPr>
                        <p:cNvPr id="323" name="Rectangle 60"/>
                        <p:cNvSpPr/>
                        <p:nvPr/>
                      </p:nvSpPr>
                      <p:spPr>
                        <a:xfrm>
                          <a:off x="6001920" y="2600280"/>
                          <a:ext cx="16948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233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1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319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Rectangle 61"/>
                        <p:cNvSpPr/>
                        <p:nvPr/>
                      </p:nvSpPr>
                      <p:spPr>
                        <a:xfrm>
                          <a:off x="6101640" y="158040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5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Rectangle 62"/>
                        <p:cNvSpPr/>
                        <p:nvPr/>
                      </p:nvSpPr>
                      <p:spPr>
                        <a:xfrm>
                          <a:off x="6099480" y="17517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Rectangle 63"/>
                        <p:cNvSpPr/>
                        <p:nvPr/>
                      </p:nvSpPr>
                      <p:spPr>
                        <a:xfrm>
                          <a:off x="6099480" y="19209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Rectangle 64"/>
                        <p:cNvSpPr/>
                        <p:nvPr/>
                      </p:nvSpPr>
                      <p:spPr>
                        <a:xfrm>
                          <a:off x="6099480" y="20901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Rectangle 65"/>
                        <p:cNvSpPr/>
                        <p:nvPr/>
                      </p:nvSpPr>
                      <p:spPr>
                        <a:xfrm>
                          <a:off x="6042600" y="2261880"/>
                          <a:ext cx="20674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1314360"/>
                              <a:tab algn="l" pos="17146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4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92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Rectangle 66"/>
                        <p:cNvSpPr/>
                        <p:nvPr/>
                      </p:nvSpPr>
                      <p:spPr>
                        <a:xfrm>
                          <a:off x="6101640" y="243108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0" name="Group 67"/>
                      <p:cNvGrpSpPr/>
                      <p:nvPr/>
                    </p:nvGrpSpPr>
                    <p:grpSpPr>
                      <a:xfrm>
                        <a:off x="6167520" y="1436400"/>
                        <a:ext cx="1730520" cy="218880"/>
                        <a:chOff x="6167520" y="1436400"/>
                        <a:chExt cx="1730520" cy="218880"/>
                      </a:xfrm>
                    </p:grpSpPr>
                    <p:pic>
                      <p:nvPicPr>
                        <p:cNvPr id="331" name="Picture 68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6939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2" name="Picture 69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692784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3" name="Picture 70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61675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  <p:sp>
              <p:nvSpPr>
                <p:cNvPr id="334" name="Line 71"/>
                <p:cNvSpPr/>
                <p:nvPr/>
              </p:nvSpPr>
              <p:spPr>
                <a:xfrm>
                  <a:off x="4593960" y="4327560"/>
                  <a:ext cx="0" cy="84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5" name="Rectangle 72"/>
            <p:cNvSpPr/>
            <p:nvPr/>
          </p:nvSpPr>
          <p:spPr>
            <a:xfrm>
              <a:off x="5010840" y="3591720"/>
              <a:ext cx="3288600" cy="677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73"/>
            <p:cNvGrpSpPr/>
            <p:nvPr/>
          </p:nvGrpSpPr>
          <p:grpSpPr>
            <a:xfrm>
              <a:off x="5162760" y="3863520"/>
              <a:ext cx="2495520" cy="304920"/>
              <a:chOff x="5162760" y="3863520"/>
              <a:chExt cx="2495520" cy="304920"/>
            </a:xfrm>
          </p:grpSpPr>
          <p:sp>
            <p:nvSpPr>
              <p:cNvPr id="337" name="Rectangle 74"/>
              <p:cNvSpPr/>
              <p:nvPr/>
            </p:nvSpPr>
            <p:spPr>
              <a:xfrm>
                <a:off x="6134040" y="386352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8" name="Picture 75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62760" y="3949200"/>
                <a:ext cx="825120" cy="219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9" name="Group 76"/>
            <p:cNvGrpSpPr/>
            <p:nvPr/>
          </p:nvGrpSpPr>
          <p:grpSpPr>
            <a:xfrm>
              <a:off x="5162760" y="3597840"/>
              <a:ext cx="2495520" cy="287640"/>
              <a:chOff x="5162760" y="3597840"/>
              <a:chExt cx="2495520" cy="287640"/>
            </a:xfrm>
          </p:grpSpPr>
          <p:sp>
            <p:nvSpPr>
              <p:cNvPr id="340" name="Rectangle 77"/>
              <p:cNvSpPr/>
              <p:nvPr/>
            </p:nvSpPr>
            <p:spPr>
              <a:xfrm>
                <a:off x="6134040" y="359784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1" name="Picture 7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162760" y="3666240"/>
                <a:ext cx="599040" cy="219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IRAGENA, Jean de Dieu</cp:lastModifiedBy>
  <cp:lastPrinted>2001-02-05T14:45:01Z</cp:lastPrinted>
  <dcterms:modified xsi:type="dcterms:W3CDTF">2012-10-24T21:59:09Z</dcterms:modified>
  <cp:revision>427</cp:revision>
  <dc:subject>Growth and Detection: Marketing Overview and DATA</dc:subject>
  <dc:title>BACTEC® MGIT 960 System</dc:title>
</cp:coreProperties>
</file>