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6.wmf" ContentType="image/x-wmf"/>
  <Override PartName="/ppt/media/image17.png" ContentType="image/pn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17ABC-1392-42A4-A477-5D1E6E4E3C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5E07A-1D14-4BD4-BECF-79545A8060A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3D8C2-BABA-4C43-B0A6-33524B2651C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77E7F-BECF-4005-AFF5-2F231E114CB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87BF5-3E18-4E1F-BC5E-1E06C02380D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C3F9C-EF82-46A9-8115-6141E1AF961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437F3-CCF5-4552-BACD-E1A026568F4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A6404-5FB6-4F09-AE0D-03DE22D580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2350D-598E-4379-830A-D8E795B978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AFC28-A4F1-482E-A154-AC28F8BDBF1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9D2BF-E483-497D-BB75-903509937CD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DEE4D-5C64-428E-8B9E-69D5A1C7D25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BE6B1-13E9-4FFF-B1A6-2BB4F00ADDB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DEEE1-0815-4717-95D1-9606637B8AF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DA657-BA8D-4AA3-88BB-A8F94D4B84B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4A60A-2698-4DDA-847C-DF64E84A191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660BC-A3F3-4AD8-8D9A-468BB54593B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E1E8-1F10-4431-A1C8-9FFD0C9CB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1633-34CB-475B-81A1-D6B758122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F3D9-9AD5-4EAF-9709-8C33A662C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06F3-36AD-40FA-A4A7-560BD546D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393BC-F7FF-4142-992F-5205AB063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99E51-BBF4-426E-86D1-3358A8C49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716B0-D5A8-4F8C-A133-C765BF2B7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B92B7-5A2C-4F81-9D0F-F9071FC1E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B9101-46F0-45EC-8229-5863FFA5F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DB949-DEA4-4E14-A975-83EAB629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FF8EB-22F7-41E2-8C79-4E14ACE7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00A6-5925-47D7-8B7C-9262414B6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3BA4B-FB50-4A77-8436-29DBEF0E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D1CF1-7883-48BD-B08B-5D51BB50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D878B-488F-4B73-8E7C-CBA4145B1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244CB-A210-44CE-82D2-B5EC8C741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83FB5-8573-4095-8E01-4C62D2A01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7867-D4C2-4ADA-9640-CE4D271AE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F069-8976-4566-B484-6CE218DFB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2B62-71C2-431F-9E60-0BB8F2CE3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E8CE-D462-4CE8-871B-1B7AA5C76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F27E-B5A4-489E-97CC-F3CBBA48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76C3-ED8F-45B7-B164-C3EB4E0E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4A39-FE9D-458E-972E-1B4B4CE9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3A83-6B1B-429B-A12B-557C67A400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5CE51-BD1A-40EA-8214-0E64C76FD4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osafety in the molecular laborato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1481040"/>
            <a:ext cx="815328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pe with a clean cloth afte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use on the log sheet provided by the individual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maintenance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entrifug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74D19-9A6C-4BF2-89B7-B86999690B51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6337440" y="142920"/>
            <a:ext cx="2584440" cy="2786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2"/>
          <a:stretch/>
        </p:blipFill>
        <p:spPr>
          <a:xfrm>
            <a:off x="6191280" y="3197160"/>
            <a:ext cx="2502000" cy="3033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480960" y="1357200"/>
            <a:ext cx="84772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 contents uniform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ix reage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ortex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Title 2" descr=""/>
          <p:cNvPicPr/>
          <p:nvPr/>
        </p:nvPicPr>
        <p:blipFill>
          <a:blip r:embed="rId3"/>
          <a:stretch/>
        </p:blipFill>
        <p:spPr>
          <a:xfrm>
            <a:off x="487440" y="285912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133" name="Content Placeholder 1"/>
          <p:cNvSpPr/>
          <p:nvPr/>
        </p:nvSpPr>
        <p:spPr>
          <a:xfrm>
            <a:off x="380880" y="4000680"/>
            <a:ext cx="8477280" cy="22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9ccf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Temperature stability for liquid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99ccf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It is crucial to heat samples in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order to totally lyse cells and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inactivate living cell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99ccf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43D39-DD2F-4684-9059-A886D3ECC57D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6840" y="1481040"/>
            <a:ext cx="80154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ortex must be disinfected on a regular b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in the waterbath must be replaced week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 with mild deter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the heating element cov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ortex and water bath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364E6-3D29-437C-AABD-607F6D4CFB99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erature s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temperature with calibrated thermometer in an oil filled tub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t several tubes at the sam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 the heating bloc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70% ethanol aft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eating block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5581800" y="3063960"/>
            <a:ext cx="3348000" cy="3579840"/>
          </a:xfrm>
          <a:prstGeom prst="rect">
            <a:avLst/>
          </a:prstGeom>
          <a:ln w="0">
            <a:noFill/>
          </a:ln>
        </p:spPr>
      </p:pic>
      <p:sp>
        <p:nvSpPr>
          <p:cNvPr id="14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DA8EE-29A0-4F69-8CD8-61EA9D661707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ry ove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 °C for 1 hour to kill tubercle baci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use instead of heating block and water b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thermometer to record 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specimen racks inside oven and do not remove once temperature is s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 specimen tubes to heated r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 as required with 1%-1.5% bleach and 70% alcohol (turn off before clean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0A59C-5C1F-4405-9C4B-65224CCAA826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6858000" y="533520"/>
            <a:ext cx="1876320" cy="14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57200" y="1481040"/>
            <a:ext cx="82296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in the ‘clean room’/DNA-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preparation of the “master mix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DNA in this 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conta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CR hoo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5943600" y="3301920"/>
            <a:ext cx="2176560" cy="2830680"/>
          </a:xfrm>
          <a:prstGeom prst="rect">
            <a:avLst/>
          </a:prstGeom>
          <a:ln w="0">
            <a:noFill/>
          </a:ln>
        </p:spPr>
      </p:pic>
      <p:sp>
        <p:nvSpPr>
          <p:cNvPr id="14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CA356-F7C2-4277-81C2-0FB059FE4722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66480" y="1481040"/>
            <a:ext cx="839628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ean before and after with bleach (prepared daily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witch on the UV light after u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 sure the UV light is switched off while working in the PCR hoo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locate equipment for the “clean room” and DO NOT USE IN OTHER ROO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o not enter the clean room after DNA extraction/entering of amplification roo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CR hoo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6B54D-A1B1-4EAB-932E-64A91B4915A0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57120" y="1481040"/>
            <a:ext cx="84060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ed for the amplification of the specific gene target by polymerase chain re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accuracy – amplification profiles can be modified to optimiz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mping rate (2.2°C/se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 off and unplug bef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outside housing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anol and wipe clean after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ermocycl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5943600" y="3429000"/>
            <a:ext cx="2193840" cy="2308320"/>
          </a:xfrm>
          <a:prstGeom prst="rect">
            <a:avLst/>
          </a:prstGeom>
          <a:ln w="0">
            <a:noFill/>
          </a:ln>
        </p:spPr>
      </p:pic>
      <p:sp>
        <p:nvSpPr>
          <p:cNvPr id="15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9D71B-3301-4CA9-A849-EF3CC4F93DC9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533520" y="1481040"/>
            <a:ext cx="82533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ed for use with DNA strips in reverse hybridization ass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ual proced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ed for the Hain molecular diagnostic ass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y incubation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 water ba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ee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12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winCubato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rcRect l="5003" t="1247" r="21877" b="8750"/>
          <a:stretch/>
        </p:blipFill>
        <p:spPr>
          <a:xfrm>
            <a:off x="6324480" y="4076640"/>
            <a:ext cx="1986120" cy="1833480"/>
          </a:xfrm>
          <a:prstGeom prst="rect">
            <a:avLst/>
          </a:prstGeom>
          <a:ln w="0">
            <a:noFill/>
          </a:ln>
        </p:spPr>
      </p:pic>
      <p:sp>
        <p:nvSpPr>
          <p:cNvPr id="1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F2EBA-F35C-4B08-8E8B-4E7E6F0252A1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57200" y="1481040"/>
            <a:ext cx="50292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 after use (when in regular u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itch off and unplug before clea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 outside housing with 70% ethanol, wipe 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winCubato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5659560" y="2154240"/>
            <a:ext cx="2939760" cy="3960720"/>
          </a:xfrm>
          <a:prstGeom prst="rect">
            <a:avLst/>
          </a:prstGeom>
          <a:ln w="0">
            <a:noFill/>
          </a:ln>
        </p:spPr>
      </p:pic>
      <p:sp>
        <p:nvSpPr>
          <p:cNvPr id="16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DFE7F-F39D-4269-8CB3-0FE3D6D8FA7D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969D2-7A6C-4BEA-85B4-948D9B1F3CF4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Which BSL for TB laboratory activities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818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SL1 – AFB smear micros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use countertop if airflow is directed away from  laboratory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for exhaust fan to draw air away from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SC prefer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SL2 – Specimen processing for TB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performed in a B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fety centrifuge cups opened only in B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BSL2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–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Molecular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ree areas with separate air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O LIVE MTB; dead cell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SL2 and/or BSL3 – MTB Culture: Identification and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work performed in a B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olation and air exhaust needed for manipulating large quantities of live M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47400" y="1428480"/>
            <a:ext cx="86439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T-Blot 48 is a fully automated system for hybridiz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ization of assay (programm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GT-Blot 48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3" descr=""/>
          <p:cNvPicPr/>
          <p:nvPr/>
        </p:nvPicPr>
        <p:blipFill>
          <a:blip r:embed="rId1"/>
          <a:srcRect l="1403" t="5622" r="12813" b="13748"/>
          <a:stretch/>
        </p:blipFill>
        <p:spPr>
          <a:xfrm>
            <a:off x="2438280" y="3276720"/>
            <a:ext cx="3857760" cy="2719440"/>
          </a:xfrm>
          <a:prstGeom prst="rect">
            <a:avLst/>
          </a:prstGeom>
          <a:ln w="0">
            <a:noFill/>
          </a:ln>
        </p:spPr>
      </p:pic>
      <p:sp>
        <p:nvSpPr>
          <p:cNvPr id="16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53B65-3CA7-47EB-AECC-5D38B5965E35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07440" y="176040"/>
            <a:ext cx="8401320" cy="607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anner: The strips can be scanned and interpreted in less than 1 min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1785960" y="1447920"/>
            <a:ext cx="5572080" cy="4724280"/>
          </a:xfrm>
          <a:prstGeom prst="rect">
            <a:avLst/>
          </a:prstGeom>
          <a:ln w="0">
            <a:noFill/>
          </a:ln>
        </p:spPr>
      </p:pic>
      <p:sp>
        <p:nvSpPr>
          <p:cNvPr id="17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317F6-1310-4F18-B8F6-207BEB6AAA3F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6840" y="1797120"/>
            <a:ext cx="86439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ash machine after use (when in regular use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move reagents after the last run of the day – wash, take “connectors” out of water at the back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o not leave the connectors in wate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ean outside housing with ethano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ash trays first with soapy and then again only with water after each ru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GT-Blot 48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37F17-2620-43D8-8190-6F25F0D3FEC7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OD LABORATORY PRACTICE AT ALL TI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KE CARE OF YOUR MACH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8D2E3-EA2A-4D59-8866-4495715B808A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ECBDF-1AA4-493D-B9D9-752F0800257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B culture laborato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80520" y="1599840"/>
            <a:ext cx="81536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llow all biosafety protocols for work in the MTB culture la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 samples for molecular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infect outside of tubes before removing from BS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t kill samples if DNA extraction occurs in the moderate-risk TB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CD131-1C90-465D-AD74-9845C2DF5FD4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lecular laborator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separate ro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ixing of air between the three ro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haring of supplies, laboratory coats and glo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laboratory practi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e aerosol generation – cross cont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infect areas with freshly prepared 1%-1.5% concentration of bl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 concentration of hypochlorite in ble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2EC4F-897E-43E4-A400-30FFF3CF7EF5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23AE8-43DE-4022-B5A2-D8C79B85E48C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PP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3354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laboratory areas with PPE stored in each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oratory co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nt-clo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slee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hable cloth or dispos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x-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Elom and Mosun staining"/>
          <p:cNvPicPr/>
          <p:nvPr/>
        </p:nvPicPr>
        <p:blipFill>
          <a:blip r:embed="rId1"/>
          <a:stretch/>
        </p:blipFill>
        <p:spPr>
          <a:xfrm>
            <a:off x="4162320" y="1366920"/>
            <a:ext cx="360684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isinfecta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shly prepared 1%-1.5% bl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by a 70% ethanol wash inside the BSC and where metal surfaces are pre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ic acid conta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9BDA1-6962-497A-A0AF-7F1A9C383EB0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Equipmen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oType MTBDRplus VER 2.0 equi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59984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ifu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rt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b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ting block/dry o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9525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R h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mocyc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inCub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T-Blot 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4F514-75C9-4B40-B508-B298BBA2A5B0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1447920"/>
            <a:ext cx="8175600" cy="50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dimentation by centripetal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PM (revolutions per minute) or x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PM = the number of full rotations completed in one min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g = centrifugal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dimentation of cells is to one side of the tube – </a:t>
            </a:r>
            <a:r>
              <a:rPr b="0" lang="en-US" sz="2800" spc="-1" strike="noStrike" u="sng">
                <a:solidFill>
                  <a:srgbClr val="192626"/>
                </a:solidFill>
                <a:uFillTx/>
                <a:latin typeface="Arial"/>
              </a:rPr>
              <a:t>mark tube for pellet orientation before centrifu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sizes: microcentrifuge/picofuge        (0.2 ml – 2.0 ml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entrifug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rcRect l="0" t="16879" r="49376" b="15632"/>
          <a:stretch/>
        </p:blipFill>
        <p:spPr>
          <a:xfrm>
            <a:off x="5486400" y="2933640"/>
            <a:ext cx="831960" cy="990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"/>
          <p:cNvPicPr/>
          <p:nvPr/>
        </p:nvPicPr>
        <p:blipFill>
          <a:blip r:embed="rId2"/>
          <a:stretch/>
        </p:blipFill>
        <p:spPr>
          <a:xfrm>
            <a:off x="7010280" y="304920"/>
            <a:ext cx="1622520" cy="1904760"/>
          </a:xfrm>
          <a:prstGeom prst="rect">
            <a:avLst/>
          </a:prstGeom>
          <a:ln w="0">
            <a:noFill/>
          </a:ln>
        </p:spPr>
      </p:pic>
      <p:sp>
        <p:nvSpPr>
          <p:cNvPr id="12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E2338-88FA-410A-AB70-98AB43330B69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3T13:26:37Z</dcterms:created>
  <dc:creator>Linda Parsons</dc:creator>
  <dc:description/>
  <dc:language>en-US</dc:language>
  <cp:lastModifiedBy>Tagliani Elisa</cp:lastModifiedBy>
  <dcterms:modified xsi:type="dcterms:W3CDTF">2020-06-12T10:11:24Z</dcterms:modified>
  <cp:revision>58</cp:revision>
  <dc:subject/>
  <dc:title>Slide 1</dc:title>
</cp:coreProperties>
</file>