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54D1-D4B1-4D14-ABD9-0ACC047787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C6B2-0C96-49C1-AB85-50957B276F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901-B6CB-4359-A9F3-E7A74D90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EFB-46C6-407F-A377-085231E0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58B-9FEA-421E-8080-0273726F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338-A3E0-40F7-AD57-B339B3AC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95F9-381A-4DDF-8FF2-8DB29B02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74D9-2948-4A00-A3B8-CB9F7EFA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A1AF-BC38-4BBC-9F90-AD5171AF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F8D1-037C-4A55-80A1-56664C01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4AA2-5851-40E1-B907-57B4BCE7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8A52-BB35-44CD-A4B7-06B86765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AF1C-27BE-42A7-98ED-3E6A74E1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670-35E8-4C66-B94E-6503E6A1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9398-1F30-4D12-AB1D-CB2202BA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F8C5-5C8B-4EB6-8353-FB30881F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6E48-3DFC-4837-846E-E3B2CF4A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3EF2-33E1-4DCE-8AF4-FD49F866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D9E4-BFD1-4D07-972D-F95D930E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812-8B7B-413E-9D30-1D444459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360-4761-4B55-8556-141BD0E7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CC5-3B97-43FA-BF2E-28E6C731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255-65C9-491E-9E11-48BDCC93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CACE-A481-46F3-9D7F-87FD1F83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B30-0054-4A09-9295-94992D86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516-F590-4598-A013-252E690F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2ED5-526B-4EF4-9423-70BA5AFCD2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62D0-3569-40E7-BA68-C9A116B766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141300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plus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sl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or 0.2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 before entering clean room 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have finished working in the specimen preparation area,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48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Na-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hypochlorite should not fall below 1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an Eppendorf repeat pipettor with individually wrapped sterile combi tips for aliquoting,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688080" y="2133720"/>
            <a:ext cx="2033640" cy="23652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59" name="Picture 5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0EED-FAE9-4AF6-B7FC-36E691668F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344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532720" y="6551640"/>
            <a:ext cx="611280" cy="30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959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to calculate the volume master mix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8"/>
          <p:cNvGraphicFramePr/>
          <p:nvPr/>
        </p:nvGraphicFramePr>
        <p:xfrm>
          <a:off x="4552920" y="1657440"/>
          <a:ext cx="3921120" cy="41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2920" y="1657440"/>
                    <a:ext cx="392112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20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termine the number of specimens and controls (number of samples to be analyzed plus control s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µl AM-A; 35µl AM-B; 5 µl DNA (after DNA extraction with GenoLyse) or 10µl DNA (after DNA extraction with GXT DNA/RNA Extraction K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volume: 50µl (GenoLyse) or 55 µl (GXT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olume of master mix is 45 µl per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2" descr="Ein Bild, das Tasse, Zahnbürste, klein, Tisch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520560" y="2266920"/>
            <a:ext cx="4051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1.5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132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ore molecular grade water, and other reagents, in the DNA-fre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letely thaw all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pette calculated amount of different components of master mix into 1.5 ml conical screw-cap vial using filtered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use a new aliquot of molecular grade water for negativ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master mix containing AM-A and AM-B and mix carefully but thoroughly (do not vo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ease note that the master mix needs to be prepared freshly each time and needs to be process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your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of same sterile, molecular grade water used to prepare master mix into negative control PCR 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2" descr="Ein Bild, das Essen, Messer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1476360" y="1436760"/>
            <a:ext cx="5616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6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workstation with freshly diluted 1.5% bleach (20 minutes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10:04:15Z</dcterms:modified>
  <cp:revision>374</cp:revision>
  <dc:subject/>
  <dc:title>PowerPoint Presentation</dc:title>
</cp:coreProperties>
</file>