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ECE-A768-4A9C-8106-3AC3E1C1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6A51-9065-4A2C-BF72-DAE09B81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BB3-7D22-4FF0-B5C8-2D683767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F3B4-5C40-48FB-ABA3-B377D171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D0E0-93B1-4821-AC47-C7BF1A86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50BC-D4A8-4FB8-BA57-18545330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0907-14AB-41DE-9DBC-192FC962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0601-8D78-4065-ABAE-2A9B8336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D10E-B2EC-4D4A-A9DB-88447B1E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7798-D496-404B-9CDF-8132353B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8DE3-A69C-4C0F-930A-591559C4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036-8CEF-41FA-8D03-746FD120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70E8-CE7C-41BD-AAE1-AC7CDC7C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3DD3-CA0C-44D6-878C-BF85083F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0E26-96B6-4262-8DF8-A66B25DD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8216-672F-4093-9EDD-579FF4B4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3E38-22A7-47BA-83EE-71B664E9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979B-F248-48E1-A11D-F7C3F83D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949-455C-4254-B02A-6225C2A4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959C-C7E6-494D-9C05-4B67D8D0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5F6-4733-4C36-80C0-C1CE0266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847-03D4-44F9-8DF0-7A646388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4288-AC46-4BF4-8B48-ED0E97A0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E7B1-29B5-4404-9B41-6850B2BA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013E-9E7E-4D16-B918-1FE1E71423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7901-C9E7-43DC-9A55-03CD395CE6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EB51-46B9-4E47-BE56-1161B9D42F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427040"/>
            <a:ext cx="800100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 MGIT 960 DST troubleshoo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4723-1794-4C44-BA3A-276F612ADD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re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is contaminated or mixed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was not properly dil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was not homogeneous or had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stor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added 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IT tube was not mixed properly after the addition of the organism susp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troubleshooting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CE40-292E-4192-B9ED-2C3C09273D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rform 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ZN smear on positive MGIT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T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NTMs show resistance to anti-mycobacterial 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3D8E-8536-4383-8BFF-26C32C0B18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purity of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inoculum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m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ellular morphology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BC mixed with N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(fungus and bac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late for contamination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ut mixed mycobacterial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C53B-5F14-470E-A282-5A489A44EF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resistance pro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sistance to a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not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0.1 ml of drug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selected from the bottom of seed tube or clumps were not allowed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a MGIT 960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DST panel with resistant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17AD-1E40-4FEE-A058-DD29C944B6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ZN on growing drug-containing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iddlebrook 7H10 is not available to confirm mycobacteria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on resistant drug-containing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at only one type of cellular morphology i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reset DST to verify drug was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746D-B3F6-4FC7-A0F5-18C295D8F5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75AE-173A-4A2F-A636-C8FBEC4D09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ST troubleshooting: When to re-t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-interpre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-resistance (especially RIF, EMB &amp; P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disagree with previous testing from the sam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line resistance/suscept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is a new untreated case and shows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s fail to give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xpected high number of resistant isolates in a 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FCD9-7643-42D7-84D7-04E3DE9780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oubleshooting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homogeneous,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must be taken when preparing di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must be reconstituted and stored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pipettes must be used, not disposable transfer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performed on all new lots of DST reagents and MGIT tubes and weekly with each batch of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DC8F-060E-4FEF-8E1D-24FEE1B45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A5AB-F092-4BF7-96ED-0655CB8586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ght equipment used correct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equipment/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nly sterile tubes and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glass beads to break up clumps in inoculum from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ed pipet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addition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McFarland standard with same tube diameter as inoculum tube and same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 7H9, use 7H9 blank in densit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tex well and allow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select inoculum from bottom of tube or over inoculate tubes with clumps of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24BA-E278-47F3-846C-2F5CFDF9C1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reag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test medium and MGIT 7 ml tubes are not interchangeable when testing SIRE and PZA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supplement and SIRE supplement are not interchange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supplement other than that supplied with the drugs – no PANTA or other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reconstit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distilled/deionize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drug dissolves comple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reconstituted drug at -2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up to 6 months, but do not exceed original expira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awed, reconstituted drug the same day; discard any unused 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6A97-B609-46D9-AB77-4B2D65C3C2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ino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cultur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MGIT tu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MGIT 960 called ‘positive’ plus 1 day to 5 days from date of po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eous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glass beads and vortex to break up organism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supernatant for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high or too low an inoculum may give erroneous results or un-interpretabl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dilutions according to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curate pipette to add inoculum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rror report for DST s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ditions occur that may affect the test results; the instrument will report this as an error 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become positive in less than 4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he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remain negative up to 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9997-B237-43E2-AFC3-6E0154C17D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alid DST sets ‘X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not positive within 13 days (SIRE) or 21 days (PZ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under-inocu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positive too soon (&lt; 4 day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over-inoculated or conta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ANY tube is missing in 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AD69-AE51-4D93-8331-5D7EC01A66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DAB2-77E9-43D1-8C33-A6584E6DC4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ST interpretation of DST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 results ‘X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was too he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MGIT tube, ‘Day’ 3 to 5 must be 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solid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 must be allowed to settle – over-inoculation and minimize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suspension from solid to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pecimen not vortex-mixed completely; clumps still present in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ontrol suspensions for SIRE and PZA are different (1:100 vs 1: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8F13-3D2F-4065-907C-897BF6257F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ST troubleshooting: Non-interprete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 took too long to interpret results (SIRE &gt;14 days; PZA &gt;21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too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pipettes must be used for dilutions and addition to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ransfer pip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with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may have been picked up, which interferes with reading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ulture too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proper growth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741B-CB29-4164-A08B-D3E53B1EEB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i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suspension must be &gt; 1.0 McFa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not homoge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too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proper amount of supplement added to tub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supplement properly sto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uch drug added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ube caps on tight? If not, oxygen can leak in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PZA medium and PZA supplement can be used for PZA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9:00Z</dcterms:modified>
  <cp:revision>33</cp:revision>
  <dc:subject/>
  <dc:title>BACTEC MGIT 960 DST Quality Control</dc:title>
</cp:coreProperties>
</file>