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50F4-594B-4F12-BED9-983EE83B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C81D-73CE-4266-8ACE-963C559C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DF7B-EC8F-4C4F-8EC2-943D1FAC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5DD5-6D6B-4A79-8490-21EDF17B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17BB-C77F-4237-A6FF-2B24BEC4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59C2-1A9B-4F8A-A980-27A9BCE4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5854-9CA4-40EA-BEC6-0A017592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ADCD-F672-4909-9FE4-7A837C02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C46E-99D4-4ECE-8396-50FB0208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F52A-F555-4FE7-83E4-FA56DA9D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6E10-04AE-4713-9D6F-07D5EB4F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21DA-3EED-4602-B583-7F488F27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787C-C64E-45AA-B625-66C8F1DC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D318-F7B9-43B4-A1FC-2ACF92E9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F476-C6BF-41C7-96C4-48953A30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D3C7-E2AA-4E2E-A25B-DAFFE191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76F1-A24D-48E8-AAD9-55668241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E3BA-4606-40A3-B8C4-C74FD4B0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2807-65A0-43F6-BA0C-4E672C4A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2F7A-CEE0-4FD1-A94A-FAEE87E5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03B4-8DFF-4C54-A9EA-2B392BEA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D11C-1903-4CEC-A5D0-5E11CBB2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7D80-ACB3-48A2-B1A7-0905BA56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BFB1-D65E-42A9-BA3F-F4527E4F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3AB3-C88E-496A-8BC8-26B2B3602C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ACAF-751C-4601-ACE3-7836A39E8B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FC7E-1F69-42E5-8E48-F37A241CE5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BACTEC MGIT 960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quality contro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96E9-2AD1-4BDA-A2D9-87A2DC273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0A49-0196-4E06-A29F-6D969CAF57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y QC reagent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D thoroughly tests all BACTEC MGIT 960 DST products prior to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y test at your fac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may be mishandled during sh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biotic potency may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 ability of laboratory to perform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9119-F9AD-49AA-B96F-58745BD09F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™ MGIT™ 960 DST </a:t>
            </a:r>
            <a:br>
              <a:rPr sz="4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qual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hipment or lot number of drug kits before use with patient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SIRE and PZA DST Q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validated, otherwise set up a QC DST set each time DSTs are inoc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rgan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CC 27294 (H37R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E dru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concentrations tested should be the same as those used for routin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oncentrations of INH used for patients; QC both concent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26B3-445D-4F64-8F9E-D392897A31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organis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cultur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CC 27294 (H37RV) or well-characterized pan-susceptible MTB s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IT 960 tub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days after flagged positive by instru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organisms may be tested to supplement BD QC recommend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nt to inoculate a known mono-resistant strain of M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C865-97B6-4734-B0A1-34EFFAA20E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200" spc="-1" strike="noStrike">
                <a:solidFill>
                  <a:srgbClr val="ffffff"/>
                </a:solidFill>
                <a:latin typeface="Arial"/>
              </a:rPr>
              <a:t>Drug and organis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should be taken to ensure proper reconstitution of lyophilized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 drug concen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preparation significantly impacts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 dilution of organism for drug and growth control tube is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nsion must be well mixed and homogeneous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QC organism suspension in the same way as patient isolate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e SIRE and PZA DS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hydrate drugs with sterile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liquots of prepared drugs from free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expiration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inoculum and di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C796-BF2C-4560-BB88-269C12150E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A761-F316-4532-A53E-591FE37F18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y of tubes into MGIT 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DST set carrier into the BACTEC MGIT 960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pretation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will interpret results between         days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should read susceptible for all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oper results are not observed, repeat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524A-659D-40E9-8D9B-7259F9EAAC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 rec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lot numbers of MGIT 960 tubes, drugs and drug supp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QC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 for a minimum of two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6B80-E2F7-406D-8342-B5CB5BDE3C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performed on all new lots or new shipment of SIRE and PZA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 suspension can be prepared from MGIT tube or sol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homogeneous, i.e. without clu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librated pipettes to inoculate drugs to media tubes, not disposable transfer pip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8:44Z</dcterms:modified>
  <cp:revision>26</cp:revision>
  <dc:subject/>
  <dc:title>BACTEC MGIT 960 DST Quality Control</dc:title>
</cp:coreProperties>
</file>